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0.pct" ContentType="image/x-pict"/>
  <Override PartName="/ppt/media/image9.png" ContentType="image/png"/>
  <Override PartName="/ppt/media/image22.pct" ContentType="image/x-pict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21.pct" ContentType="image/x-pict"/>
  <Override PartName="/ppt/media/image14.jpeg" ContentType="image/jpeg"/>
  <Override PartName="/ppt/media/image6.png" ContentType="image/png"/>
  <Override PartName="/ppt/media/image20.pct" ContentType="image/x-pict"/>
  <Override PartName="/ppt/media/image1.jpeg" ContentType="image/jpeg"/>
  <Override PartName="/ppt/media/image2.pct" ContentType="image/x-pict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7B4C-0C9D-42FA-BCF4-C5F613D1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tudied at the University of Vienna from 1851 to 1853 where he was influenced by a physicist who encouraged experimentation and the application of mathematics to science and a botanist who aroused Mendel’s interest in the causes of variation in plants.  After the university, Mendel taught at the Brunn Modern School and lived in the local monas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ks at this monastery had a long tradition of interest in the breeding of plants, including peas. Around 1857, Mendel began breeding garden peas to study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nkled seeds in pea plants with two copies of the recessive allele are due to the accumulation of monosaccharides and excess water in seeds because of the lack of a key enzyme. The seeds wrinkle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homozygous dominants and heterozygotes produce enough enzyme to convert all the monosaccharides into starch and form smooth seeds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ili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6B79-3AC8-41C9-AC2B-92858EDBC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983C-8D12-4634-8B46-39A6EAD33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8322-0DC0-41D9-9B87-06C9B4B9D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6E50-4A38-472F-8662-82B3D4C18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6596-E84C-4E5E-A4FE-C58A20EB9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DD54-E1AA-464A-922D-17369F2A7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9877-DBFA-4437-B5A7-038C2228B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C043-6731-4ADE-8AE8-078DB31D8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F53A-D758-494C-8CBB-4D971BAD6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9733-C958-4AB1-B408-7A2CB552B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818E-FC5C-4160-BCDE-DBD63EA2C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B07B-0E89-4A4A-B4A8-CA802797F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C56D-83E6-4FB2-AE44-2D3F031A3367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0.pct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2840" y="1922040"/>
            <a:ext cx="541008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&amp;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k of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30920" y="38088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2252" r="45001" b="0"/>
          <a:stretch/>
        </p:blipFill>
        <p:spPr>
          <a:xfrm>
            <a:off x="7467480" y="4495680"/>
            <a:ext cx="14875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5410080" y="3286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6253200" y="336600"/>
            <a:ext cx="758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ing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represent alleles as lett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 allele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purpl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whit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822560" y="4114440"/>
            <a:ext cx="2486880" cy="794880"/>
            <a:chOff x="4822560" y="4114440"/>
            <a:chExt cx="2486880" cy="794880"/>
          </a:xfrm>
        </p:grpSpPr>
        <p:sp>
          <p:nvSpPr>
            <p:cNvPr id="197" name=""/>
            <p:cNvSpPr/>
            <p:nvPr/>
          </p:nvSpPr>
          <p:spPr>
            <a:xfrm>
              <a:off x="4822560" y="4114440"/>
              <a:ext cx="9579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0" lang="en-US" sz="4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73760" y="4174560"/>
              <a:ext cx="44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5560" y="4114440"/>
              <a:ext cx="893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>
                  <a:solidFill>
                    <a:srgbClr val="cc0000"/>
                  </a:solidFill>
                  <a:latin typeface="Arial"/>
                </a:rPr>
                <a:t>pp</a:t>
              </a:r>
              <a:endParaRPr b="0" lang="en-US" sz="4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681880" y="5682960"/>
            <a:ext cx="926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46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25560" y="4095720"/>
            <a:ext cx="2555640" cy="2500200"/>
            <a:chOff x="1825560" y="4095720"/>
            <a:chExt cx="2555640" cy="2500200"/>
          </a:xfrm>
        </p:grpSpPr>
        <p:sp>
          <p:nvSpPr>
            <p:cNvPr id="202" name=""/>
            <p:cNvSpPr/>
            <p:nvPr/>
          </p:nvSpPr>
          <p:spPr>
            <a:xfrm>
              <a:off x="1839960" y="578016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5280" y="4402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2282760" y="4130280"/>
              <a:ext cx="7189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3514680" y="4130280"/>
              <a:ext cx="7588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124080" y="4724280"/>
              <a:ext cx="228600" cy="671040"/>
            </a:xfrm>
            <a:prstGeom prst="downArrow">
              <a:avLst>
                <a:gd name="adj1" fmla="val 50000"/>
                <a:gd name="adj2" fmla="val 73386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36600" y="432180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2877840" y="5499000"/>
              <a:ext cx="71928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240640" y="4995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46000" y="49953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96760" y="62510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25560" y="4095720"/>
              <a:ext cx="2555640" cy="2500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rot="5400000">
            <a:off x="5729400" y="49910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624996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440" y="5603760"/>
            <a:ext cx="1570680" cy="9129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87320" y="5232240"/>
            <a:ext cx="784800" cy="5580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67960" y="5238360"/>
            <a:ext cx="5550840" cy="1544760"/>
            <a:chOff x="1767960" y="5238360"/>
            <a:chExt cx="5550840" cy="1544760"/>
          </a:xfrm>
        </p:grpSpPr>
        <p:grpSp>
          <p:nvGrpSpPr>
            <p:cNvPr id="218" name=""/>
            <p:cNvGrpSpPr/>
            <p:nvPr/>
          </p:nvGrpSpPr>
          <p:grpSpPr>
            <a:xfrm>
              <a:off x="1767960" y="5238360"/>
              <a:ext cx="2663280" cy="1544760"/>
              <a:chOff x="1767960" y="5238360"/>
              <a:chExt cx="2663280" cy="1544760"/>
            </a:xfrm>
          </p:grpSpPr>
          <p:sp>
            <p:nvSpPr>
              <p:cNvPr id="219" name=""/>
              <p:cNvSpPr/>
              <p:nvPr/>
            </p:nvSpPr>
            <p:spPr>
              <a:xfrm>
                <a:off x="1767960" y="523836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5b03b3"/>
                    </a:solidFill>
                    <a:latin typeface="Arial"/>
                  </a:rPr>
                  <a:t>purpl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1901520" y="5868720"/>
                <a:ext cx="2396520" cy="914400"/>
                <a:chOff x="1901520" y="5868720"/>
                <a:chExt cx="2396520" cy="914400"/>
              </a:xfrm>
            </p:grpSpPr>
            <p:pic>
              <p:nvPicPr>
                <p:cNvPr id="221" name="" descr="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86872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24" name=""/>
            <p:cNvGrpSpPr/>
            <p:nvPr/>
          </p:nvGrpSpPr>
          <p:grpSpPr>
            <a:xfrm>
              <a:off x="4795560" y="5238360"/>
              <a:ext cx="2523240" cy="1524240"/>
              <a:chOff x="4795560" y="5238360"/>
              <a:chExt cx="2523240" cy="1524240"/>
            </a:xfrm>
          </p:grpSpPr>
          <p:sp>
            <p:nvSpPr>
              <p:cNvPr id="225" name=""/>
              <p:cNvSpPr/>
              <p:nvPr/>
            </p:nvSpPr>
            <p:spPr>
              <a:xfrm>
                <a:off x="4795560" y="523836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226" name="" descr="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86872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7" name=""/>
          <p:cNvSpPr/>
          <p:nvPr/>
        </p:nvSpPr>
        <p:spPr>
          <a:xfrm>
            <a:off x="605016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6568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9088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2040" y="6304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7840" y="1576440"/>
            <a:ext cx="482040" cy="550800"/>
          </a:xfrm>
          <a:custGeom>
            <a:avLst/>
            <a:gdLst>
              <a:gd name="textAreaLeft" fmla="*/ 23400 w 482040"/>
              <a:gd name="textAreaRight" fmla="*/ 458640 w 482040"/>
              <a:gd name="textAreaTop" fmla="*/ 23400 h 550800"/>
              <a:gd name="textAreaBottom" fmla="*/ 527400 h 550800"/>
            </a:gdLst>
            <a:ahLst/>
            <a:rect l="textAreaLeft" t="textAreaTop" r="textAreaRight" b="textAreaBottom"/>
            <a:pathLst>
              <a:path w="21600" h="24679">
                <a:moveTo>
                  <a:pt x="3600" y="0"/>
                </a:moveTo>
                <a:arcTo wR="3600" hR="3600" stAng="16200000" swAng="-5400000"/>
                <a:lnTo>
                  <a:pt x="0" y="21079"/>
                </a:lnTo>
                <a:arcTo wR="3600" hR="3600" stAng="10800000" swAng="-5400000"/>
                <a:lnTo>
                  <a:pt x="18000" y="246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236" name="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b03b3"/>
                  </a:solidFill>
                  <a:latin typeface="Arial"/>
                </a:rPr>
                <a:t>true-breeding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b03b3"/>
                  </a:solidFill>
                  <a:latin typeface="Arial"/>
                </a:rPr>
                <a:t>purpl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239" name="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6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2113920" y="2345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84520" y="23457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2560" y="3122280"/>
            <a:ext cx="8898840" cy="1602000"/>
            <a:chOff x="52560" y="3122280"/>
            <a:chExt cx="8898840" cy="1602000"/>
          </a:xfrm>
        </p:grpSpPr>
        <p:sp>
          <p:nvSpPr>
            <p:cNvPr id="244" name="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60" y="3164400"/>
              <a:ext cx="1600920" cy="121968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247" name="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5b03b3"/>
                    </a:solidFill>
                    <a:latin typeface="Arial"/>
                  </a:rPr>
                  <a:t>purpl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249" name="" descr="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9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10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53" name=""/>
          <p:cNvSpPr/>
          <p:nvPr/>
        </p:nvSpPr>
        <p:spPr>
          <a:xfrm>
            <a:off x="303984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116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284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4160" y="43650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21040" y="1483920"/>
            <a:ext cx="16394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hen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08160" y="2381040"/>
            <a:ext cx="146880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gen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048920" y="4564080"/>
            <a:ext cx="1079640" cy="1079640"/>
          </a:xfrm>
          <a:custGeom>
            <a:avLst/>
            <a:gdLst>
              <a:gd name="textAreaLeft" fmla="*/ -360 w 1079640"/>
              <a:gd name="textAreaRight" fmla="*/ 1079640 w 10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734" y="9149"/>
                </a:moveTo>
                <a:arcTo wR="-6287" hR="-6287" stAng="-9886611" swAng="-17154416"/>
                <a:lnTo>
                  <a:pt x="10929" y="21599"/>
                </a:lnTo>
                <a:arcTo wR="10800" hR="10800" stAng="5358972" swAng="17154416"/>
                <a:lnTo>
                  <a:pt x="23826" y="14345"/>
                </a:lnTo>
                <a:lnTo>
                  <a:pt x="17742" y="17826"/>
                </a:lnTo>
                <a:lnTo>
                  <a:pt x="14261" y="11742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51840" y="49341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nett squa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26800" y="126828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181240" y="2696040"/>
            <a:ext cx="1889280" cy="889200"/>
            <a:chOff x="2181240" y="2696040"/>
            <a:chExt cx="1889280" cy="889200"/>
          </a:xfrm>
        </p:grpSpPr>
        <p:sp>
          <p:nvSpPr>
            <p:cNvPr id="265" name=""/>
            <p:cNvSpPr/>
            <p:nvPr/>
          </p:nvSpPr>
          <p:spPr>
            <a:xfrm>
              <a:off x="22575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38880" y="30344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269" name="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335200" y="2765520"/>
            <a:ext cx="1422720" cy="914400"/>
            <a:chOff x="5335200" y="2765520"/>
            <a:chExt cx="1422720" cy="9144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039000" y="276552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335200" y="282348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8001000" y="2757600"/>
            <a:ext cx="920520" cy="2438280"/>
            <a:chOff x="8001000" y="2757600"/>
            <a:chExt cx="920520" cy="2438280"/>
          </a:xfrm>
        </p:grpSpPr>
        <p:sp>
          <p:nvSpPr>
            <p:cNvPr id="276" name=""/>
            <p:cNvSpPr/>
            <p:nvPr/>
          </p:nvSpPr>
          <p:spPr>
            <a:xfrm>
              <a:off x="8077680" y="35949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7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01000" y="2757600"/>
              <a:ext cx="0" cy="24382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8001000" y="5272200"/>
            <a:ext cx="920520" cy="761760"/>
            <a:chOff x="8001000" y="5272200"/>
            <a:chExt cx="920520" cy="761760"/>
          </a:xfrm>
        </p:grpSpPr>
        <p:sp>
          <p:nvSpPr>
            <p:cNvPr id="279" name=""/>
            <p:cNvSpPr/>
            <p:nvPr/>
          </p:nvSpPr>
          <p:spPr>
            <a:xfrm>
              <a:off x="807768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0100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8152560" y="6189840"/>
            <a:ext cx="7117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018200" y="2757600"/>
            <a:ext cx="920520" cy="761760"/>
            <a:chOff x="7018200" y="2757600"/>
            <a:chExt cx="920520" cy="761760"/>
          </a:xfrm>
        </p:grpSpPr>
        <p:sp>
          <p:nvSpPr>
            <p:cNvPr id="283" name=""/>
            <p:cNvSpPr/>
            <p:nvPr/>
          </p:nvSpPr>
          <p:spPr>
            <a:xfrm>
              <a:off x="7094880" y="2909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18200" y="2757600"/>
              <a:ext cx="0" cy="7617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010280" y="3595680"/>
            <a:ext cx="920520" cy="1600200"/>
            <a:chOff x="7010280" y="3595680"/>
            <a:chExt cx="920520" cy="1600200"/>
          </a:xfrm>
        </p:grpSpPr>
        <p:sp>
          <p:nvSpPr>
            <p:cNvPr id="286" name=""/>
            <p:cNvSpPr/>
            <p:nvPr/>
          </p:nvSpPr>
          <p:spPr>
            <a:xfrm>
              <a:off x="7010280" y="3595680"/>
              <a:ext cx="0" cy="1600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86960" y="405252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8044bc"/>
                  </a:solidFill>
                  <a:latin typeface="Arial"/>
                </a:rPr>
                <a:t>50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010280" y="5272200"/>
            <a:ext cx="920520" cy="761760"/>
            <a:chOff x="7010280" y="5272200"/>
            <a:chExt cx="920520" cy="761760"/>
          </a:xfrm>
        </p:grpSpPr>
        <p:sp>
          <p:nvSpPr>
            <p:cNvPr id="289" name=""/>
            <p:cNvSpPr/>
            <p:nvPr/>
          </p:nvSpPr>
          <p:spPr>
            <a:xfrm>
              <a:off x="7086960" y="53474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10280" y="527220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90040" y="6189840"/>
            <a:ext cx="100584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:2: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54520" y="21157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geno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05160" y="2115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1751040" y="370188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78757" t="66008" r="4500" b="7504"/>
          <a:stretch/>
        </p:blipFill>
        <p:spPr>
          <a:xfrm>
            <a:off x="3187800" y="4900680"/>
            <a:ext cx="758880" cy="893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3187800" y="370188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rcRect l="9000" t="66008" r="75379" b="7504"/>
          <a:stretch/>
        </p:blipFill>
        <p:spPr>
          <a:xfrm>
            <a:off x="1751040" y="490068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248920" y="40935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5960" y="4093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49280" y="5284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5600" y="5284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01312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5355720" y="5398920"/>
            <a:ext cx="1402200" cy="893880"/>
            <a:chOff x="5355720" y="5398920"/>
            <a:chExt cx="1402200" cy="893880"/>
          </a:xfrm>
        </p:grpSpPr>
        <p:sp>
          <p:nvSpPr>
            <p:cNvPr id="304" name=""/>
            <p:cNvSpPr/>
            <p:nvPr/>
          </p:nvSpPr>
          <p:spPr>
            <a:xfrm>
              <a:off x="5355720" y="541728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7"/>
            <a:srcRect l="78757" t="66008" r="4500" b="7504"/>
            <a:stretch/>
          </p:blipFill>
          <p:spPr>
            <a:xfrm>
              <a:off x="5999040" y="539892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" descr="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3338640" y="1709640"/>
            <a:ext cx="718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5344920" y="4487760"/>
            <a:ext cx="1413000" cy="914400"/>
            <a:chOff x="5344920" y="4487760"/>
            <a:chExt cx="1413000" cy="914400"/>
          </a:xfrm>
        </p:grpSpPr>
        <p:sp>
          <p:nvSpPr>
            <p:cNvPr id="308" name=""/>
            <p:cNvSpPr/>
            <p:nvPr/>
          </p:nvSpPr>
          <p:spPr>
            <a:xfrm>
              <a:off x="5344920" y="4500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6039000" y="448776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"/>
          <p:cNvGrpSpPr/>
          <p:nvPr/>
        </p:nvGrpSpPr>
        <p:grpSpPr>
          <a:xfrm>
            <a:off x="5344920" y="3622680"/>
            <a:ext cx="1413000" cy="914400"/>
            <a:chOff x="5344920" y="3622680"/>
            <a:chExt cx="1413000" cy="914400"/>
          </a:xfrm>
        </p:grpSpPr>
        <p:sp>
          <p:nvSpPr>
            <p:cNvPr id="311" name=""/>
            <p:cNvSpPr/>
            <p:nvPr/>
          </p:nvSpPr>
          <p:spPr>
            <a:xfrm>
              <a:off x="5344920" y="36615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10"/>
            <a:srcRect l="9000" t="66008" r="75379" b="7504"/>
            <a:stretch/>
          </p:blipFill>
          <p:spPr>
            <a:xfrm>
              <a:off x="6039000" y="3622680"/>
              <a:ext cx="71892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>
            <a:off x="147600" y="1413720"/>
            <a:ext cx="1502280" cy="11192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1"/>
          <a:stretch/>
        </p:blipFill>
        <p:spPr>
          <a:xfrm>
            <a:off x="7869240" y="3110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919760" y="388800"/>
            <a:ext cx="2674800" cy="1355760"/>
          </a:xfrm>
          <a:prstGeom prst="wedgeEllipseCallout">
            <a:avLst>
              <a:gd name="adj1" fmla="val 72078"/>
              <a:gd name="adj2" fmla="val -3126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aaaah,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henotype &amp; genotyp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an have differen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ratio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am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ter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differ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32200" y="2644920"/>
            <a:ext cx="4761000" cy="4101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382760" y="30423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omina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82760" y="5785560"/>
            <a:ext cx="1562400" cy="60804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cessiv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rcRect l="9000" t="66008" r="75379" b="7504"/>
          <a:stretch/>
        </p:blipFill>
        <p:spPr>
          <a:xfrm>
            <a:off x="4965840" y="29084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rcRect l="9000" t="66008" r="75379" b="7504"/>
          <a:stretch/>
        </p:blipFill>
        <p:spPr>
          <a:xfrm>
            <a:off x="4965840" y="382104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4965840" y="470232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rcRect l="78757" t="66008" r="4500" b="7504"/>
          <a:stretch/>
        </p:blipFill>
        <p:spPr>
          <a:xfrm>
            <a:off x="4965840" y="5581800"/>
            <a:ext cx="758520" cy="8935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321920" y="4536720"/>
            <a:ext cx="1607760" cy="304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terozygou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66680" y="2583000"/>
            <a:ext cx="7467840" cy="204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enotype vs. g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ganisms can have the same phenotype but have different geno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481040" y="2685960"/>
            <a:ext cx="6859080" cy="914400"/>
            <a:chOff x="1481040" y="2685960"/>
            <a:chExt cx="6859080" cy="914400"/>
          </a:xfrm>
        </p:grpSpPr>
        <p:sp>
          <p:nvSpPr>
            <p:cNvPr id="330" name=""/>
            <p:cNvSpPr/>
            <p:nvPr/>
          </p:nvSpPr>
          <p:spPr>
            <a:xfrm>
              <a:off x="4824720" y="29134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omozygous domina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481040" y="2685960"/>
              <a:ext cx="3194280" cy="914400"/>
              <a:chOff x="1481040" y="2685960"/>
              <a:chExt cx="3194280" cy="914400"/>
            </a:xfrm>
          </p:grpSpPr>
          <p:sp>
            <p:nvSpPr>
              <p:cNvPr id="332" name=""/>
              <p:cNvSpPr/>
              <p:nvPr/>
            </p:nvSpPr>
            <p:spPr>
              <a:xfrm>
                <a:off x="3985560" y="28677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41440" y="2867760"/>
                <a:ext cx="134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8044bc"/>
                    </a:solidFill>
                    <a:latin typeface="Arial"/>
                  </a:rPr>
                  <a:t>purple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334" name="" descr=""/>
              <p:cNvPicPr/>
              <p:nvPr/>
            </p:nvPicPr>
            <p:blipFill>
              <a:blip r:embed="rId1"/>
              <a:srcRect l="9000" t="66008" r="75379" b="7504"/>
              <a:stretch/>
            </p:blipFill>
            <p:spPr>
              <a:xfrm>
                <a:off x="1481040" y="2685960"/>
                <a:ext cx="71928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5" name=""/>
          <p:cNvGrpSpPr/>
          <p:nvPr/>
        </p:nvGrpSpPr>
        <p:grpSpPr>
          <a:xfrm>
            <a:off x="1481040" y="3670200"/>
            <a:ext cx="5504760" cy="914400"/>
            <a:chOff x="1481040" y="3670200"/>
            <a:chExt cx="5504760" cy="914400"/>
          </a:xfrm>
        </p:grpSpPr>
        <p:sp>
          <p:nvSpPr>
            <p:cNvPr id="336" name=""/>
            <p:cNvSpPr/>
            <p:nvPr/>
          </p:nvSpPr>
          <p:spPr>
            <a:xfrm>
              <a:off x="3985920" y="3852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25440" y="3897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44bc"/>
                  </a:solidFill>
                  <a:latin typeface="Arial"/>
                </a:rPr>
                <a:t>heterozygou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49360" y="385200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44bc"/>
                  </a:solidFill>
                  <a:latin typeface="Arial"/>
                </a:rPr>
                <a:t>purple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81040" y="367020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1230480" y="5170320"/>
            <a:ext cx="6343560" cy="1157400"/>
            <a:chOff x="1230480" y="5170320"/>
            <a:chExt cx="6343560" cy="1157400"/>
          </a:xfrm>
        </p:grpSpPr>
        <p:sp>
          <p:nvSpPr>
            <p:cNvPr id="341" name=""/>
            <p:cNvSpPr/>
            <p:nvPr/>
          </p:nvSpPr>
          <p:spPr>
            <a:xfrm>
              <a:off x="1230480" y="5170320"/>
              <a:ext cx="5410080" cy="1143000"/>
            </a:xfrm>
            <a:custGeom>
              <a:avLst/>
              <a:gdLst>
                <a:gd name="textAreaLeft" fmla="*/ 0 w 5410080"/>
                <a:gd name="textAreaRight" fmla="*/ 5410440 w 5410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How do you determine the 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enotype of an individual with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ith a dominant phenotype?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6727680" y="5251320"/>
              <a:ext cx="8463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7108920" y="4100400"/>
            <a:ext cx="1766880" cy="1041480"/>
          </a:xfrm>
          <a:prstGeom prst="wedgeEllipseCallout">
            <a:avLst>
              <a:gd name="adj1" fmla="val 8222"/>
              <a:gd name="adj2" fmla="val 107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an’t tel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y lookin’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y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ed the dominant phenotype —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unknown genotype — with a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 recessiv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) to determine the identity of the unknown alle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30640" y="5180760"/>
            <a:ext cx="70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63760" y="5104800"/>
            <a:ext cx="200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s it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or 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044880" y="4075200"/>
            <a:ext cx="2728800" cy="914400"/>
            <a:chOff x="3044880" y="4075200"/>
            <a:chExt cx="2728800" cy="914400"/>
          </a:xfrm>
        </p:grpSpPr>
        <p:sp>
          <p:nvSpPr>
            <p:cNvPr id="350" name=""/>
            <p:cNvSpPr/>
            <p:nvPr/>
          </p:nvSpPr>
          <p:spPr>
            <a:xfrm>
              <a:off x="4192560" y="425700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3044880" y="407520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5014800" y="4084560"/>
              <a:ext cx="758880" cy="89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115040" y="4100400"/>
            <a:ext cx="1766880" cy="1041480"/>
          </a:xfrm>
          <a:prstGeom prst="wedgeEllipseCallout">
            <a:avLst>
              <a:gd name="adj1" fmla="val 9569"/>
              <a:gd name="adj2" fmla="val 1108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How doe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 work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449000" y="22089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6972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does a Test cross work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10016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6448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1644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376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560" y="5166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519880" y="3554280"/>
          <a:ext cx="2895480" cy="252756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60642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35800" y="30045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73480" y="401076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31000" y="52459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5756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4488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9000" t="66008" r="75379" b="7504"/>
          <a:stretch/>
        </p:blipFill>
        <p:spPr>
          <a:xfrm>
            <a:off x="1179360" y="3687840"/>
            <a:ext cx="719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1473120" y="1352520"/>
            <a:ext cx="2403720" cy="914400"/>
            <a:chOff x="1473120" y="1352520"/>
            <a:chExt cx="2403720" cy="914400"/>
          </a:xfrm>
        </p:grpSpPr>
        <p:sp>
          <p:nvSpPr>
            <p:cNvPr id="372" name=""/>
            <p:cNvSpPr/>
            <p:nvPr/>
          </p:nvSpPr>
          <p:spPr>
            <a:xfrm>
              <a:off x="241272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2"/>
            <a:srcRect l="9000" t="66008" r="75379" b="7504"/>
            <a:stretch/>
          </p:blipFill>
          <p:spPr>
            <a:xfrm>
              <a:off x="147312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3"/>
            <a:srcRect l="78757" t="66008" r="4500" b="7504"/>
            <a:stretch/>
          </p:blipFill>
          <p:spPr>
            <a:xfrm>
              <a:off x="311796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5886360" y="1352520"/>
            <a:ext cx="2403720" cy="914400"/>
            <a:chOff x="5886360" y="1352520"/>
            <a:chExt cx="2403720" cy="914400"/>
          </a:xfrm>
        </p:grpSpPr>
        <p:sp>
          <p:nvSpPr>
            <p:cNvPr id="376" name=""/>
            <p:cNvSpPr/>
            <p:nvPr/>
          </p:nvSpPr>
          <p:spPr>
            <a:xfrm>
              <a:off x="6825960" y="15343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77" name="" descr=""/>
            <p:cNvPicPr/>
            <p:nvPr/>
          </p:nvPicPr>
          <p:blipFill>
            <a:blip r:embed="rId4"/>
            <a:srcRect l="9000" t="66008" r="75379" b="7504"/>
            <a:stretch/>
          </p:blipFill>
          <p:spPr>
            <a:xfrm>
              <a:off x="5886360" y="135252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5"/>
            <a:srcRect l="78757" t="66008" r="4500" b="7504"/>
            <a:stretch/>
          </p:blipFill>
          <p:spPr>
            <a:xfrm>
              <a:off x="7531200" y="1362240"/>
              <a:ext cx="758880" cy="8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" descr="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260028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rcRect l="9000" t="66008" r="75379" b="7504"/>
          <a:stretch/>
        </p:blipFill>
        <p:spPr>
          <a:xfrm>
            <a:off x="1179360" y="489420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rcRect l="9000" t="66008" r="75379" b="7504"/>
          <a:stretch/>
        </p:blipFill>
        <p:spPr>
          <a:xfrm>
            <a:off x="2600280" y="489420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68084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8084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8760" y="533340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87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72760" y="6209280"/>
            <a:ext cx="218412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 </a:t>
            </a:r>
            <a:r>
              <a:rPr b="1" lang="en-US" sz="2600" spc="-1" strike="noStrike">
                <a:solidFill>
                  <a:srgbClr val="5b03b3"/>
                </a:solidFill>
                <a:latin typeface="Arial"/>
              </a:rPr>
              <a:t>purp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9"/>
          <a:srcRect l="9000" t="66008" r="75379" b="7504"/>
          <a:stretch/>
        </p:blipFill>
        <p:spPr>
          <a:xfrm>
            <a:off x="555300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0"/>
          <a:srcRect l="9000" t="66008" r="75379" b="7504"/>
          <a:stretch/>
        </p:blipFill>
        <p:spPr>
          <a:xfrm>
            <a:off x="6981840" y="36878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1"/>
          <a:srcRect l="78757" t="66008" r="4500" b="7504"/>
          <a:stretch/>
        </p:blipFill>
        <p:spPr>
          <a:xfrm>
            <a:off x="698184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14016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9888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88080" y="41061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03b3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5600" y="6273360"/>
            <a:ext cx="3948840" cy="4752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0%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1:1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2"/>
          <a:srcRect l="78757" t="66008" r="4500" b="7504"/>
          <a:stretch/>
        </p:blipFill>
        <p:spPr>
          <a:xfrm>
            <a:off x="5553000" y="4886280"/>
            <a:ext cx="758880" cy="8938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150960" y="533340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5000" y="1468440"/>
            <a:ext cx="1227240" cy="797040"/>
          </a:xfrm>
          <a:prstGeom prst="wedgeEllipseCallout">
            <a:avLst>
              <a:gd name="adj1" fmla="val 57245"/>
              <a:gd name="adj2" fmla="val 675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i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21240" y="1468440"/>
            <a:ext cx="1227240" cy="797040"/>
          </a:xfrm>
          <a:prstGeom prst="wedgeEllipseCallout">
            <a:avLst>
              <a:gd name="adj1" fmla="val 59703"/>
              <a:gd name="adj2" fmla="val 6832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Or am I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i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1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st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9952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egregati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ring meiosis,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 segreg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 separa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allele for a trait is packaged into a separate game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781680" y="623880"/>
            <a:ext cx="2049480" cy="1752480"/>
            <a:chOff x="6781680" y="623880"/>
            <a:chExt cx="2049480" cy="1752480"/>
          </a:xfrm>
        </p:grpSpPr>
        <p:grpSp>
          <p:nvGrpSpPr>
            <p:cNvPr id="401" name=""/>
            <p:cNvGrpSpPr/>
            <p:nvPr/>
          </p:nvGrpSpPr>
          <p:grpSpPr>
            <a:xfrm>
              <a:off x="6781680" y="1120680"/>
              <a:ext cx="838080" cy="838080"/>
              <a:chOff x="6781680" y="1120680"/>
              <a:chExt cx="838080" cy="838080"/>
            </a:xfrm>
          </p:grpSpPr>
          <p:sp>
            <p:nvSpPr>
              <p:cNvPr id="402" name=""/>
              <p:cNvSpPr/>
              <p:nvPr/>
            </p:nvSpPr>
            <p:spPr>
              <a:xfrm>
                <a:off x="6781680" y="11206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9080" y="12722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221680" y="623880"/>
              <a:ext cx="609480" cy="609480"/>
              <a:chOff x="8221680" y="623880"/>
              <a:chExt cx="609480" cy="609480"/>
            </a:xfrm>
          </p:grpSpPr>
          <p:sp>
            <p:nvSpPr>
              <p:cNvPr id="405" name=""/>
              <p:cNvSpPr/>
              <p:nvPr/>
            </p:nvSpPr>
            <p:spPr>
              <a:xfrm>
                <a:off x="8221680" y="623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308800" y="653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221680" y="1766880"/>
              <a:ext cx="609480" cy="609480"/>
              <a:chOff x="8221680" y="1766880"/>
              <a:chExt cx="609480" cy="609480"/>
            </a:xfrm>
          </p:grpSpPr>
          <p:sp>
            <p:nvSpPr>
              <p:cNvPr id="408" name=""/>
              <p:cNvSpPr/>
              <p:nvPr/>
            </p:nvSpPr>
            <p:spPr>
              <a:xfrm>
                <a:off x="8221680" y="17668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308800" y="17960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rot="1800000">
              <a:off x="7611480" y="16905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 rot="19800000">
              <a:off x="7611480" y="11570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781680" y="2816280"/>
            <a:ext cx="2049480" cy="1752480"/>
            <a:chOff x="6781680" y="2816280"/>
            <a:chExt cx="2049480" cy="1752480"/>
          </a:xfrm>
        </p:grpSpPr>
        <p:grpSp>
          <p:nvGrpSpPr>
            <p:cNvPr id="413" name=""/>
            <p:cNvGrpSpPr/>
            <p:nvPr/>
          </p:nvGrpSpPr>
          <p:grpSpPr>
            <a:xfrm>
              <a:off x="6781680" y="3313080"/>
              <a:ext cx="838080" cy="838080"/>
              <a:chOff x="6781680" y="3313080"/>
              <a:chExt cx="838080" cy="838080"/>
            </a:xfrm>
          </p:grpSpPr>
          <p:sp>
            <p:nvSpPr>
              <p:cNvPr id="414" name=""/>
              <p:cNvSpPr/>
              <p:nvPr/>
            </p:nvSpPr>
            <p:spPr>
              <a:xfrm>
                <a:off x="6781680" y="3313080"/>
                <a:ext cx="838080" cy="8380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78160" y="345672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8221680" y="2816280"/>
              <a:ext cx="609480" cy="609480"/>
              <a:chOff x="8221680" y="2816280"/>
              <a:chExt cx="60948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8221680" y="2816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18520" y="2845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8221680" y="3959280"/>
              <a:ext cx="609480" cy="609480"/>
              <a:chOff x="8221680" y="3959280"/>
              <a:chExt cx="609480" cy="609480"/>
            </a:xfrm>
          </p:grpSpPr>
          <p:sp>
            <p:nvSpPr>
              <p:cNvPr id="420" name=""/>
              <p:cNvSpPr/>
              <p:nvPr/>
            </p:nvSpPr>
            <p:spPr>
              <a:xfrm>
                <a:off x="8221680" y="395928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18520" y="3988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rot="1800000">
              <a:off x="7611480" y="38829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19800000">
              <a:off x="7611480" y="33494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81680" y="5010120"/>
            <a:ext cx="2049480" cy="1752480"/>
            <a:chOff x="6781680" y="5010120"/>
            <a:chExt cx="2049480" cy="1752480"/>
          </a:xfrm>
        </p:grpSpPr>
        <p:grpSp>
          <p:nvGrpSpPr>
            <p:cNvPr id="425" name=""/>
            <p:cNvGrpSpPr/>
            <p:nvPr/>
          </p:nvGrpSpPr>
          <p:grpSpPr>
            <a:xfrm>
              <a:off x="6781680" y="5506920"/>
              <a:ext cx="838080" cy="838080"/>
              <a:chOff x="6781680" y="5506920"/>
              <a:chExt cx="838080" cy="838080"/>
            </a:xfrm>
          </p:grpSpPr>
          <p:sp>
            <p:nvSpPr>
              <p:cNvPr id="426" name=""/>
              <p:cNvSpPr/>
              <p:nvPr/>
            </p:nvSpPr>
            <p:spPr>
              <a:xfrm>
                <a:off x="6781680" y="550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8800" y="56584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221680" y="5010120"/>
              <a:ext cx="609480" cy="609480"/>
              <a:chOff x="8221680" y="5010120"/>
              <a:chExt cx="609480" cy="609480"/>
            </a:xfrm>
          </p:grpSpPr>
          <p:sp>
            <p:nvSpPr>
              <p:cNvPr id="429" name=""/>
              <p:cNvSpPr/>
              <p:nvPr/>
            </p:nvSpPr>
            <p:spPr>
              <a:xfrm>
                <a:off x="8221680" y="501012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308800" y="503928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8221680" y="6153120"/>
              <a:ext cx="609480" cy="609480"/>
              <a:chOff x="8221680" y="6153120"/>
              <a:chExt cx="609480" cy="609480"/>
            </a:xfrm>
          </p:grpSpPr>
          <p:sp>
            <p:nvSpPr>
              <p:cNvPr id="432" name=""/>
              <p:cNvSpPr/>
              <p:nvPr/>
            </p:nvSpPr>
            <p:spPr>
              <a:xfrm>
                <a:off x="8221680" y="615312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318520" y="61826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 rot="1800000">
              <a:off x="7611840" y="60764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19800000">
              <a:off x="7611840" y="55436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440" y="4317840"/>
            <a:ext cx="2590920" cy="1828800"/>
            <a:chOff x="55440" y="4317840"/>
            <a:chExt cx="2590920" cy="1828800"/>
          </a:xfrm>
        </p:grpSpPr>
        <p:sp>
          <p:nvSpPr>
            <p:cNvPr id="437" name=""/>
            <p:cNvSpPr/>
            <p:nvPr/>
          </p:nvSpPr>
          <p:spPr>
            <a:xfrm>
              <a:off x="55440" y="4317840"/>
              <a:ext cx="2590920" cy="18288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79600" y="4622400"/>
              <a:ext cx="677520" cy="1295640"/>
              <a:chOff x="579600" y="4622400"/>
              <a:chExt cx="677520" cy="12956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969840" y="4622400"/>
                <a:ext cx="287280" cy="1295640"/>
                <a:chOff x="969840" y="4622400"/>
                <a:chExt cx="287280" cy="1295640"/>
              </a:xfrm>
            </p:grpSpPr>
            <p:sp>
              <p:nvSpPr>
                <p:cNvPr id="440" name=""/>
                <p:cNvSpPr/>
                <p:nvPr/>
              </p:nvSpPr>
              <p:spPr>
                <a:xfrm flipH="1">
                  <a:off x="969840" y="462240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084320" y="4714560"/>
                  <a:ext cx="8388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114624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579600" y="4622400"/>
                <a:ext cx="286920" cy="1295640"/>
                <a:chOff x="579600" y="4622400"/>
                <a:chExt cx="286920" cy="12956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88960" y="4622400"/>
                  <a:ext cx="27756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668520" y="4714560"/>
                  <a:ext cx="8352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579600" y="5745240"/>
                  <a:ext cx="11052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1417680" y="4622400"/>
              <a:ext cx="677520" cy="1295640"/>
              <a:chOff x="1417680" y="4622400"/>
              <a:chExt cx="677520" cy="129564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807920" y="4622400"/>
                <a:ext cx="287280" cy="1295640"/>
                <a:chOff x="1807920" y="4622400"/>
                <a:chExt cx="287280" cy="1295640"/>
              </a:xfrm>
            </p:grpSpPr>
            <p:sp>
              <p:nvSpPr>
                <p:cNvPr id="449" name=""/>
                <p:cNvSpPr/>
                <p:nvPr/>
              </p:nvSpPr>
              <p:spPr>
                <a:xfrm flipH="1">
                  <a:off x="1807920" y="462240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92240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198432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1417680" y="4622400"/>
                <a:ext cx="287280" cy="1295640"/>
                <a:chOff x="1417680" y="4622400"/>
                <a:chExt cx="287280" cy="12956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427040" y="462240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1506240" y="471456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>
                  <a:off x="1417680" y="574524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6" name=""/>
          <p:cNvGrpSpPr/>
          <p:nvPr/>
        </p:nvGrpSpPr>
        <p:grpSpPr>
          <a:xfrm>
            <a:off x="2648880" y="4709160"/>
            <a:ext cx="604080" cy="970200"/>
            <a:chOff x="2648880" y="4709160"/>
            <a:chExt cx="604080" cy="970200"/>
          </a:xfrm>
        </p:grpSpPr>
        <p:sp>
          <p:nvSpPr>
            <p:cNvPr id="457" name=""/>
            <p:cNvSpPr/>
            <p:nvPr/>
          </p:nvSpPr>
          <p:spPr>
            <a:xfrm rot="1800000">
              <a:off x="2646000" y="538452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 rot="19800000">
              <a:off x="2646000" y="48513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255840" y="4317840"/>
            <a:ext cx="1371600" cy="1752480"/>
            <a:chOff x="3255840" y="4317840"/>
            <a:chExt cx="1371600" cy="1752480"/>
          </a:xfrm>
        </p:grpSpPr>
        <p:sp>
          <p:nvSpPr>
            <p:cNvPr id="460" name=""/>
            <p:cNvSpPr/>
            <p:nvPr/>
          </p:nvSpPr>
          <p:spPr>
            <a:xfrm rot="16200000">
              <a:off x="30654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578400" y="4546440"/>
              <a:ext cx="677520" cy="1295280"/>
              <a:chOff x="3578400" y="4546440"/>
              <a:chExt cx="677520" cy="129528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3968640" y="4546440"/>
                <a:ext cx="287280" cy="1295280"/>
                <a:chOff x="3968640" y="4546440"/>
                <a:chExt cx="287280" cy="129528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3968640" y="454644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083120" y="4638240"/>
                  <a:ext cx="8388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V="1">
                  <a:off x="414504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3578400" y="4546440"/>
                <a:ext cx="286920" cy="1295280"/>
                <a:chOff x="3578400" y="4546440"/>
                <a:chExt cx="286920" cy="12952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587760" y="4546440"/>
                  <a:ext cx="27756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3667320" y="4638240"/>
                  <a:ext cx="8352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flipV="1">
                  <a:off x="3578400" y="5669280"/>
                  <a:ext cx="11052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0" name=""/>
          <p:cNvGrpSpPr/>
          <p:nvPr/>
        </p:nvGrpSpPr>
        <p:grpSpPr>
          <a:xfrm>
            <a:off x="4856040" y="4317840"/>
            <a:ext cx="1371600" cy="1752480"/>
            <a:chOff x="4856040" y="4317840"/>
            <a:chExt cx="1371600" cy="1752480"/>
          </a:xfrm>
        </p:grpSpPr>
        <p:sp>
          <p:nvSpPr>
            <p:cNvPr id="471" name=""/>
            <p:cNvSpPr/>
            <p:nvPr/>
          </p:nvSpPr>
          <p:spPr>
            <a:xfrm rot="16200000">
              <a:off x="4665600" y="450828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227560" y="4546440"/>
              <a:ext cx="677520" cy="1295280"/>
              <a:chOff x="5227560" y="4546440"/>
              <a:chExt cx="677520" cy="129528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5617800" y="4546440"/>
                <a:ext cx="287280" cy="1295280"/>
                <a:chOff x="5617800" y="4546440"/>
                <a:chExt cx="287280" cy="1295280"/>
              </a:xfrm>
            </p:grpSpPr>
            <p:sp>
              <p:nvSpPr>
                <p:cNvPr id="474" name=""/>
                <p:cNvSpPr/>
                <p:nvPr/>
              </p:nvSpPr>
              <p:spPr>
                <a:xfrm flipH="1">
                  <a:off x="5617800" y="454644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73228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79420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5227560" y="4546440"/>
                <a:ext cx="287280" cy="1295280"/>
                <a:chOff x="5227560" y="4546440"/>
                <a:chExt cx="287280" cy="1295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236920" y="454644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5316120" y="463824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>
                  <a:off x="5227560" y="566928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3921120" y="4089240"/>
            <a:ext cx="1636560" cy="2133720"/>
            <a:chOff x="3921120" y="4089240"/>
            <a:chExt cx="1636560" cy="2133720"/>
          </a:xfrm>
        </p:grpSpPr>
        <p:sp>
          <p:nvSpPr>
            <p:cNvPr id="482" name=""/>
            <p:cNvSpPr/>
            <p:nvPr/>
          </p:nvSpPr>
          <p:spPr>
            <a:xfrm>
              <a:off x="392112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57680" y="408924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218040" y="3936960"/>
            <a:ext cx="3504960" cy="2133720"/>
            <a:chOff x="3218040" y="3936960"/>
            <a:chExt cx="3504960" cy="2133720"/>
          </a:xfrm>
        </p:grpSpPr>
        <p:sp>
          <p:nvSpPr>
            <p:cNvPr id="485" name=""/>
            <p:cNvSpPr/>
            <p:nvPr/>
          </p:nvSpPr>
          <p:spPr>
            <a:xfrm>
              <a:off x="3218040" y="3936960"/>
              <a:ext cx="350496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255840" y="4318200"/>
              <a:ext cx="3351960" cy="1752480"/>
              <a:chOff x="3255840" y="4318200"/>
              <a:chExt cx="3351960" cy="175248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3255840" y="4318200"/>
                <a:ext cx="837720" cy="1752480"/>
                <a:chOff x="3255840" y="4318200"/>
                <a:chExt cx="837720" cy="1752480"/>
              </a:xfrm>
            </p:grpSpPr>
            <p:sp>
              <p:nvSpPr>
                <p:cNvPr id="488" name=""/>
                <p:cNvSpPr/>
                <p:nvPr/>
              </p:nvSpPr>
              <p:spPr>
                <a:xfrm rot="16200000">
                  <a:off x="279828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3551400" y="4546800"/>
                  <a:ext cx="286200" cy="1295280"/>
                  <a:chOff x="3551400" y="4546800"/>
                  <a:chExt cx="286200" cy="129528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3560400" y="4546800"/>
                    <a:ext cx="27720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363996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flipV="1">
                    <a:off x="355140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3" name=""/>
              <p:cNvGrpSpPr/>
              <p:nvPr/>
            </p:nvGrpSpPr>
            <p:grpSpPr>
              <a:xfrm>
                <a:off x="4093560" y="4318200"/>
                <a:ext cx="838080" cy="1752480"/>
                <a:chOff x="4093560" y="4318200"/>
                <a:chExt cx="838080" cy="1752480"/>
              </a:xfrm>
            </p:grpSpPr>
            <p:sp>
              <p:nvSpPr>
                <p:cNvPr id="494" name=""/>
                <p:cNvSpPr/>
                <p:nvPr/>
              </p:nvSpPr>
              <p:spPr>
                <a:xfrm rot="16200000">
                  <a:off x="3636360" y="477540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" name=""/>
                <p:cNvGrpSpPr/>
                <p:nvPr/>
              </p:nvGrpSpPr>
              <p:grpSpPr>
                <a:xfrm>
                  <a:off x="4348440" y="4546800"/>
                  <a:ext cx="286920" cy="1295280"/>
                  <a:chOff x="4348440" y="4546800"/>
                  <a:chExt cx="286920" cy="129528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flipH="1">
                    <a:off x="4348080" y="4546800"/>
                    <a:ext cx="27756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4462920" y="463860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>
                    <a:off x="4524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5770080" y="4318200"/>
                <a:ext cx="837720" cy="1752480"/>
                <a:chOff x="5770080" y="4318200"/>
                <a:chExt cx="837720" cy="1752480"/>
              </a:xfrm>
            </p:grpSpPr>
            <p:sp>
              <p:nvSpPr>
                <p:cNvPr id="500" name=""/>
                <p:cNvSpPr/>
                <p:nvPr/>
              </p:nvSpPr>
              <p:spPr>
                <a:xfrm rot="16200000">
                  <a:off x="531252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" name=""/>
                <p:cNvGrpSpPr/>
                <p:nvPr/>
              </p:nvGrpSpPr>
              <p:grpSpPr>
                <a:xfrm>
                  <a:off x="6024960" y="4546800"/>
                  <a:ext cx="286920" cy="1295280"/>
                  <a:chOff x="6024960" y="4546800"/>
                  <a:chExt cx="286920" cy="12952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flipH="1">
                    <a:off x="6024600" y="4546800"/>
                    <a:ext cx="27756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613944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>
                    <a:off x="620136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4932000" y="4318200"/>
                <a:ext cx="837720" cy="1752480"/>
                <a:chOff x="4932000" y="4318200"/>
                <a:chExt cx="837720" cy="1752480"/>
              </a:xfrm>
            </p:grpSpPr>
            <p:sp>
              <p:nvSpPr>
                <p:cNvPr id="506" name=""/>
                <p:cNvSpPr/>
                <p:nvPr/>
              </p:nvSpPr>
              <p:spPr>
                <a:xfrm rot="16200000">
                  <a:off x="4474440" y="4775400"/>
                  <a:ext cx="1752480" cy="83772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5226840" y="4546800"/>
                  <a:ext cx="286920" cy="1295280"/>
                  <a:chOff x="5226840" y="4546800"/>
                  <a:chExt cx="286920" cy="12952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5236200" y="4546800"/>
                    <a:ext cx="27756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>
                    <a:off x="5315400" y="463860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5226840" y="566964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11" name=""/>
          <p:cNvSpPr/>
          <p:nvPr/>
        </p:nvSpPr>
        <p:spPr>
          <a:xfrm>
            <a:off x="1351080" y="416556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Segre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 flipH="1">
            <a:off x="18216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 flipH="1">
            <a:off x="293760" y="3648240"/>
            <a:ext cx="2442960" cy="1517400"/>
          </a:xfrm>
          <a:prstGeom prst="wedgeEllipseCallout">
            <a:avLst>
              <a:gd name="adj1" fmla="val 14324"/>
              <a:gd name="adj2" fmla="val 8712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o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nd 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idn’t even know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NA or gen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5251320" y="520560"/>
            <a:ext cx="3780000" cy="619308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2578320" y="3152520"/>
            <a:ext cx="2727000" cy="854280"/>
            <a:chOff x="2578320" y="3152520"/>
            <a:chExt cx="2727000" cy="854280"/>
          </a:xfrm>
        </p:grpSpPr>
        <p:sp>
          <p:nvSpPr>
            <p:cNvPr id="518" name=""/>
            <p:cNvSpPr/>
            <p:nvPr/>
          </p:nvSpPr>
          <p:spPr>
            <a:xfrm>
              <a:off x="3171960" y="347364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78320" y="315252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no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of Mendel’s experiments followed the inheritance of single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01064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1250" t="3000" r="16878" b="1504"/>
          <a:stretch/>
        </p:blipFill>
        <p:spPr>
          <a:xfrm>
            <a:off x="5950080" y="3603600"/>
            <a:ext cx="3166920" cy="3156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371240"/>
            <a:ext cx="6483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dern genetics began in the mid-1800s in an abbey garden, where a monk named Gregor Mendel documented inheritance in p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 experimental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ntitative ana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llected data &amp; counted th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llent example of scientific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flipH="1">
            <a:off x="7089480" y="380880"/>
            <a:ext cx="1893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rcRect l="18000" t="2252" r="19128" b="1504"/>
          <a:stretch/>
        </p:blipFill>
        <p:spPr>
          <a:xfrm>
            <a:off x="5162400" y="1308240"/>
            <a:ext cx="3603600" cy="41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6880" y="1371600"/>
            <a:ext cx="4875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of Mendel’s experiments followed the inheritance of 2 different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sha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 flipH="1">
            <a:off x="174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flipH="1">
            <a:off x="1967040" y="5238720"/>
            <a:ext cx="2533680" cy="1430280"/>
          </a:xfrm>
          <a:prstGeom prst="wedgeEllipseCallout">
            <a:avLst>
              <a:gd name="adj1" fmla="val 76189"/>
              <a:gd name="adj2" fmla="val -7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as working o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any of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genetic rule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4640" y="1598400"/>
            <a:ext cx="2695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yellow, round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6240" y="1676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69520" y="1598400"/>
            <a:ext cx="2943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reen, wrinkled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17880" y="1729800"/>
            <a:ext cx="3650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51840" y="20408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93360" y="20408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403960" y="1714680"/>
            <a:ext cx="457200" cy="380880"/>
            <a:chOff x="5403960" y="1714680"/>
            <a:chExt cx="457200" cy="380880"/>
          </a:xfrm>
        </p:grpSpPr>
        <p:sp>
          <p:nvSpPr>
            <p:cNvPr id="536" name=""/>
            <p:cNvSpPr/>
            <p:nvPr/>
          </p:nvSpPr>
          <p:spPr>
            <a:xfrm>
              <a:off x="5403960" y="1790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79920" y="1714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085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08520" y="1790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32560" y="1714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799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32560" y="1943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79920" y="1943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56240" y="1790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489744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2120" y="159660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21040" y="3220920"/>
            <a:ext cx="8708040" cy="1100880"/>
            <a:chOff x="221040" y="3220920"/>
            <a:chExt cx="8708040" cy="1100880"/>
          </a:xfrm>
        </p:grpSpPr>
        <p:sp>
          <p:nvSpPr>
            <p:cNvPr id="548" name=""/>
            <p:cNvSpPr/>
            <p:nvPr/>
          </p:nvSpPr>
          <p:spPr>
            <a:xfrm>
              <a:off x="777456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1040" y="322092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941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276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611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943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607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9392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274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6096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27840" y="364176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59400" y="3260160"/>
              <a:ext cx="2695320" cy="3283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, round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1796400" y="2179800"/>
            <a:ext cx="136404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yello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rou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19480" y="2179800"/>
            <a:ext cx="1528560" cy="7117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gre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wrinkl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374360" y="4422600"/>
            <a:ext cx="1079640" cy="1079640"/>
          </a:xfrm>
          <a:custGeom>
            <a:avLst/>
            <a:gdLst>
              <a:gd name="textAreaLeft" fmla="*/ -360 w 1079640"/>
              <a:gd name="textAreaRight" fmla="*/ 1079640 w 10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734" y="9149"/>
                </a:moveTo>
                <a:arcTo wR="-6287" hR="-6287" stAng="-9886611" swAng="-17154416"/>
                <a:lnTo>
                  <a:pt x="10929" y="21599"/>
                </a:lnTo>
                <a:arcTo wR="10800" hR="10800" stAng="5358972" swAng="17154416"/>
                <a:lnTo>
                  <a:pt x="23826" y="14345"/>
                </a:lnTo>
                <a:lnTo>
                  <a:pt x="17742" y="17826"/>
                </a:lnTo>
                <a:lnTo>
                  <a:pt x="14261" y="11742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85200" y="475668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8440" y="632160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51080" y="5025960"/>
            <a:ext cx="1461600" cy="5580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9:3:3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70160" y="5693760"/>
            <a:ext cx="11444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9/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70120" y="5693760"/>
            <a:ext cx="114480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oun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53160" y="5693760"/>
            <a:ext cx="140652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3/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yellow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89640" y="5693760"/>
            <a:ext cx="1374840" cy="107316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/1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rinkl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3120" y="5124600"/>
            <a:ext cx="7092720" cy="1006560"/>
            <a:chOff x="213120" y="5124600"/>
            <a:chExt cx="7092720" cy="1006560"/>
          </a:xfrm>
        </p:grpSpPr>
        <p:sp>
          <p:nvSpPr>
            <p:cNvPr id="571" name=""/>
            <p:cNvSpPr/>
            <p:nvPr/>
          </p:nvSpPr>
          <p:spPr>
            <a:xfrm>
              <a:off x="213120" y="530676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14680" y="51246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14640" y="512460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5327640" y="5176800"/>
              <a:ext cx="457200" cy="380880"/>
              <a:chOff x="5327640" y="5176800"/>
              <a:chExt cx="457200" cy="380880"/>
            </a:xfrm>
          </p:grpSpPr>
          <p:sp>
            <p:nvSpPr>
              <p:cNvPr id="575" name=""/>
              <p:cNvSpPr/>
              <p:nvPr/>
            </p:nvSpPr>
            <p:spPr>
              <a:xfrm>
                <a:off x="532764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0396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6325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32560" y="5253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556240" y="51768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03960" y="532908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5624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03960" y="540540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79920" y="525312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848640" y="5176800"/>
              <a:ext cx="457200" cy="380880"/>
              <a:chOff x="6848640" y="5176800"/>
              <a:chExt cx="457200" cy="380880"/>
            </a:xfrm>
          </p:grpSpPr>
          <p:sp>
            <p:nvSpPr>
              <p:cNvPr id="585" name=""/>
              <p:cNvSpPr/>
              <p:nvPr/>
            </p:nvSpPr>
            <p:spPr>
              <a:xfrm>
                <a:off x="6848640" y="52527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24600" y="5176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532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53200" y="52527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77240" y="5176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24600" y="53290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077240" y="54054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24600" y="54054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00920" y="52527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"/>
          <p:cNvSpPr/>
          <p:nvPr/>
        </p:nvSpPr>
        <p:spPr>
          <a:xfrm>
            <a:off x="4490640" y="4021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’s going on her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re on different chromosomes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 do they assort in the gametes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togethe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independentl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257480" y="2941560"/>
            <a:ext cx="1143000" cy="1143000"/>
            <a:chOff x="1257480" y="2941560"/>
            <a:chExt cx="1143000" cy="1143000"/>
          </a:xfrm>
        </p:grpSpPr>
        <p:sp>
          <p:nvSpPr>
            <p:cNvPr id="598" name=""/>
            <p:cNvSpPr/>
            <p:nvPr/>
          </p:nvSpPr>
          <p:spPr>
            <a:xfrm>
              <a:off x="1257480" y="294156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93480" y="323784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38080" y="4876920"/>
            <a:ext cx="838080" cy="838080"/>
            <a:chOff x="838080" y="4876920"/>
            <a:chExt cx="838080" cy="838080"/>
          </a:xfrm>
        </p:grpSpPr>
        <p:sp>
          <p:nvSpPr>
            <p:cNvPr id="601" name=""/>
            <p:cNvSpPr/>
            <p:nvPr/>
          </p:nvSpPr>
          <p:spPr>
            <a:xfrm>
              <a:off x="838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0540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981080" y="4876920"/>
            <a:ext cx="838080" cy="838080"/>
            <a:chOff x="1981080" y="4876920"/>
            <a:chExt cx="838080" cy="838080"/>
          </a:xfrm>
        </p:grpSpPr>
        <p:sp>
          <p:nvSpPr>
            <p:cNvPr id="604" name=""/>
            <p:cNvSpPr/>
            <p:nvPr/>
          </p:nvSpPr>
          <p:spPr>
            <a:xfrm>
              <a:off x="1981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33720" y="502848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71468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84880" y="2933640"/>
            <a:ext cx="1143000" cy="11430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4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20880" y="3229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865840" y="4876920"/>
            <a:ext cx="838080" cy="838080"/>
            <a:chOff x="5865840" y="4876920"/>
            <a:chExt cx="838080" cy="838080"/>
          </a:xfrm>
        </p:grpSpPr>
        <p:sp>
          <p:nvSpPr>
            <p:cNvPr id="610" name=""/>
            <p:cNvSpPr/>
            <p:nvPr/>
          </p:nvSpPr>
          <p:spPr>
            <a:xfrm>
              <a:off x="5865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96880" y="502848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08840" y="4876920"/>
            <a:ext cx="838080" cy="838080"/>
            <a:chOff x="7008840" y="4876920"/>
            <a:chExt cx="838080" cy="838080"/>
          </a:xfrm>
        </p:grpSpPr>
        <p:sp>
          <p:nvSpPr>
            <p:cNvPr id="613" name=""/>
            <p:cNvSpPr/>
            <p:nvPr/>
          </p:nvSpPr>
          <p:spPr>
            <a:xfrm>
              <a:off x="700884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97400" y="50284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742080" y="416088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836960" y="4876920"/>
            <a:ext cx="838080" cy="838080"/>
            <a:chOff x="4836960" y="4876920"/>
            <a:chExt cx="838080" cy="838080"/>
          </a:xfrm>
        </p:grpSpPr>
        <p:sp>
          <p:nvSpPr>
            <p:cNvPr id="617" name=""/>
            <p:cNvSpPr/>
            <p:nvPr/>
          </p:nvSpPr>
          <p:spPr>
            <a:xfrm>
              <a:off x="48369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0428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8029440" y="4884840"/>
            <a:ext cx="838080" cy="838080"/>
            <a:chOff x="8029440" y="4884840"/>
            <a:chExt cx="838080" cy="838080"/>
          </a:xfrm>
        </p:grpSpPr>
        <p:sp>
          <p:nvSpPr>
            <p:cNvPr id="620" name=""/>
            <p:cNvSpPr/>
            <p:nvPr/>
          </p:nvSpPr>
          <p:spPr>
            <a:xfrm>
              <a:off x="8029440" y="488484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82080" y="503640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H="1">
            <a:off x="2559960" y="3152880"/>
            <a:ext cx="1631880" cy="488880"/>
          </a:xfrm>
          <a:custGeom>
            <a:avLst/>
            <a:gdLst>
              <a:gd name="textAreaLeft" fmla="*/ -360 w 1631880"/>
              <a:gd name="textAreaRight" fmla="*/ 1631880 w 16318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 it this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3640" y="3152880"/>
            <a:ext cx="1449000" cy="488880"/>
          </a:xfrm>
          <a:custGeom>
            <a:avLst/>
            <a:gdLst>
              <a:gd name="textAreaLeft" fmla="*/ 0 w 1449000"/>
              <a:gd name="textAreaRight" fmla="*/ 1449360 w 14490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this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 flipH="1">
            <a:off x="26348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 flipH="1">
            <a:off x="4293360" y="5792760"/>
            <a:ext cx="2274840" cy="993960"/>
          </a:xfrm>
          <a:prstGeom prst="wedgeEllipseCallout">
            <a:avLst>
              <a:gd name="adj1" fmla="val 77703"/>
              <a:gd name="adj2" fmla="val -38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ich syst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plain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ta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628" name="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631" name="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634" name="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635" name="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646" name="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647" name="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657" name=""/>
          <p:cNvGraphicFramePr/>
          <p:nvPr/>
        </p:nvGraphicFramePr>
        <p:xfrm>
          <a:off x="1873080" y="3497400"/>
          <a:ext cx="3487680" cy="2342520"/>
        </p:xfrm>
        <a:graphic>
          <a:graphicData uri="http://schemas.openxmlformats.org/drawingml/2006/table">
            <a:tbl>
              <a:tblPr/>
              <a:tblGrid>
                <a:gridCol w="1744200"/>
                <a:gridCol w="1743480"/>
              </a:tblGrid>
              <a:tr h="121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is the way it work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67720" y="29854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43680" y="29854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19880" y="3825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89440" y="506808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669" name="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670" name="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673" name="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676" name="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680" name="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683" name="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686" name="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687" name="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690" name="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102400" y="406008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77640" y="40600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87000" y="5245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63320" y="52459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955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84720" y="366876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94080" y="48718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284720" y="4910040"/>
            <a:ext cx="457200" cy="380880"/>
            <a:chOff x="4284720" y="4910040"/>
            <a:chExt cx="457200" cy="380880"/>
          </a:xfrm>
        </p:grpSpPr>
        <p:sp>
          <p:nvSpPr>
            <p:cNvPr id="705" name=""/>
            <p:cNvSpPr/>
            <p:nvPr/>
          </p:nvSpPr>
          <p:spPr>
            <a:xfrm>
              <a:off x="4284720" y="498600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60680" y="49100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892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89280" y="498600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13320" y="49100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60680" y="506232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13320" y="513864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60680" y="513864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37000" y="498600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452920" y="174600"/>
            <a:ext cx="141444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589720" y="54673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5345280" y="3711600"/>
            <a:ext cx="1779480" cy="930240"/>
          </a:xfrm>
          <a:prstGeom prst="wedgeEllipseCallout">
            <a:avLst>
              <a:gd name="adj1" fmla="val -18152"/>
              <a:gd name="adj2" fmla="val 15221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ell, that’s</a:t>
            </a:r>
            <a:br>
              <a:rPr sz="1800"/>
            </a:b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  <a:ea typeface="Geneva"/>
              </a:rPr>
              <a:t>NOT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righ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32960" y="2995560"/>
            <a:ext cx="2241000" cy="36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cc0000"/>
                </a:solidFill>
                <a:latin typeface="Zapf Dingbats"/>
                <a:ea typeface="Zapf Dingbats"/>
              </a:rPr>
              <a:t></a:t>
            </a:r>
            <a:endParaRPr b="0" lang="en-US" sz="33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8" name=""/>
          <p:cNvGraphicFramePr/>
          <p:nvPr/>
        </p:nvGraphicFramePr>
        <p:xfrm>
          <a:off x="1523880" y="3048120"/>
          <a:ext cx="5181840" cy="336060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02520" y="25138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25520" y="2513880"/>
            <a:ext cx="5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59240" y="25138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17160" y="252972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86520" y="3276000"/>
            <a:ext cx="711000" cy="3065040"/>
            <a:chOff x="686520" y="3276000"/>
            <a:chExt cx="711000" cy="3065040"/>
          </a:xfrm>
        </p:grpSpPr>
        <p:sp>
          <p:nvSpPr>
            <p:cNvPr id="727" name=""/>
            <p:cNvSpPr/>
            <p:nvPr/>
          </p:nvSpPr>
          <p:spPr>
            <a:xfrm>
              <a:off x="686520" y="327600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0600" y="411372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7760" y="4951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0400" y="579024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524600" y="34124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83960" y="341244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139280" y="341244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00080" y="34124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88680" y="429840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48040" y="429840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03360" y="42984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64160" y="42984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45120" y="513648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06280" y="51364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60520" y="513648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21680" y="513648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09200" y="58986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8560" y="589860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24600" y="589860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85760" y="589860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177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0040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9568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1772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200400" y="3962520"/>
            <a:ext cx="457200" cy="380880"/>
            <a:chOff x="3200400" y="3962520"/>
            <a:chExt cx="457200" cy="380880"/>
          </a:xfrm>
        </p:grpSpPr>
        <p:sp>
          <p:nvSpPr>
            <p:cNvPr id="756" name=""/>
            <p:cNvSpPr/>
            <p:nvPr/>
          </p:nvSpPr>
          <p:spPr>
            <a:xfrm>
              <a:off x="320040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053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05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2900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767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2900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7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5268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449568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1772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9568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132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17720" y="56386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200400" y="5638680"/>
            <a:ext cx="457200" cy="380880"/>
            <a:chOff x="3200400" y="5638680"/>
            <a:chExt cx="457200" cy="380880"/>
          </a:xfrm>
        </p:grpSpPr>
        <p:sp>
          <p:nvSpPr>
            <p:cNvPr id="772" name=""/>
            <p:cNvSpPr/>
            <p:nvPr/>
          </p:nvSpPr>
          <p:spPr>
            <a:xfrm>
              <a:off x="320040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7672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5053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0532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2900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767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2900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7672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52680" y="571500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791320" y="5638680"/>
            <a:ext cx="457200" cy="380880"/>
            <a:chOff x="5791320" y="5638680"/>
            <a:chExt cx="457200" cy="380880"/>
          </a:xfrm>
        </p:grpSpPr>
        <p:sp>
          <p:nvSpPr>
            <p:cNvPr id="783" name=""/>
            <p:cNvSpPr/>
            <p:nvPr/>
          </p:nvSpPr>
          <p:spPr>
            <a:xfrm>
              <a:off x="5791320" y="5714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67280" y="5638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58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5880" y="5714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19920" y="5638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19920" y="5867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67280" y="5867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43600" y="5714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791320" y="3962520"/>
            <a:ext cx="457200" cy="380880"/>
            <a:chOff x="5791320" y="3962520"/>
            <a:chExt cx="457200" cy="380880"/>
          </a:xfrm>
        </p:grpSpPr>
        <p:sp>
          <p:nvSpPr>
            <p:cNvPr id="793" name=""/>
            <p:cNvSpPr/>
            <p:nvPr/>
          </p:nvSpPr>
          <p:spPr>
            <a:xfrm>
              <a:off x="5791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6764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962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624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99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676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199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6764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360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804" name="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807" name="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810" name="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811" name="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822" name="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823" name="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7020000" y="345960"/>
            <a:ext cx="1962720" cy="1322640"/>
            <a:chOff x="7020000" y="345960"/>
            <a:chExt cx="1962720" cy="1322640"/>
          </a:xfrm>
        </p:grpSpPr>
        <p:grpSp>
          <p:nvGrpSpPr>
            <p:cNvPr id="834" name=""/>
            <p:cNvGrpSpPr/>
            <p:nvPr/>
          </p:nvGrpSpPr>
          <p:grpSpPr>
            <a:xfrm>
              <a:off x="7671600" y="345960"/>
              <a:ext cx="712440" cy="541800"/>
              <a:chOff x="7671600" y="345960"/>
              <a:chExt cx="712440" cy="541800"/>
            </a:xfrm>
          </p:grpSpPr>
          <p:sp>
            <p:nvSpPr>
              <p:cNvPr id="835" name=""/>
              <p:cNvSpPr/>
              <p:nvPr/>
            </p:nvSpPr>
            <p:spPr>
              <a:xfrm>
                <a:off x="7754400" y="345960"/>
                <a:ext cx="542160" cy="54180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71600" y="43092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7547040" y="1267560"/>
              <a:ext cx="421560" cy="397440"/>
              <a:chOff x="7547040" y="1267560"/>
              <a:chExt cx="421560" cy="397440"/>
            </a:xfrm>
          </p:grpSpPr>
          <p:sp>
            <p:nvSpPr>
              <p:cNvPr id="838" name=""/>
              <p:cNvSpPr/>
              <p:nvPr/>
            </p:nvSpPr>
            <p:spPr>
              <a:xfrm>
                <a:off x="7555680" y="1267560"/>
                <a:ext cx="39780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547040" y="128196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8064720" y="1267560"/>
              <a:ext cx="471960" cy="397440"/>
              <a:chOff x="8064720" y="1267560"/>
              <a:chExt cx="471960" cy="397440"/>
            </a:xfrm>
          </p:grpSpPr>
          <p:sp>
            <p:nvSpPr>
              <p:cNvPr id="841" name=""/>
              <p:cNvSpPr/>
              <p:nvPr/>
            </p:nvSpPr>
            <p:spPr>
              <a:xfrm>
                <a:off x="809784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064720" y="12819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7971480" y="927720"/>
              <a:ext cx="108360" cy="397440"/>
            </a:xfrm>
            <a:prstGeom prst="downArrow">
              <a:avLst>
                <a:gd name="adj1" fmla="val 50000"/>
                <a:gd name="adj2" fmla="val 916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7020000" y="1267560"/>
              <a:ext cx="497880" cy="397440"/>
              <a:chOff x="7020000" y="1267560"/>
              <a:chExt cx="497880" cy="397440"/>
            </a:xfrm>
          </p:grpSpPr>
          <p:sp>
            <p:nvSpPr>
              <p:cNvPr id="845" name=""/>
              <p:cNvSpPr/>
              <p:nvPr/>
            </p:nvSpPr>
            <p:spPr>
              <a:xfrm>
                <a:off x="7067880" y="12675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20000" y="128196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8582040" y="1271160"/>
              <a:ext cx="400680" cy="397440"/>
              <a:chOff x="8582040" y="1271160"/>
              <a:chExt cx="400680" cy="397440"/>
            </a:xfrm>
          </p:grpSpPr>
          <p:sp>
            <p:nvSpPr>
              <p:cNvPr id="848" name=""/>
              <p:cNvSpPr/>
              <p:nvPr/>
            </p:nvSpPr>
            <p:spPr>
              <a:xfrm>
                <a:off x="8582040" y="1271160"/>
                <a:ext cx="397440" cy="3974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587080" y="128700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0" name=""/>
          <p:cNvGrpSpPr/>
          <p:nvPr/>
        </p:nvGrpSpPr>
        <p:grpSpPr>
          <a:xfrm>
            <a:off x="5658120" y="363600"/>
            <a:ext cx="976680" cy="1287000"/>
            <a:chOff x="5658120" y="363600"/>
            <a:chExt cx="976680" cy="1287000"/>
          </a:xfrm>
        </p:grpSpPr>
        <p:grpSp>
          <p:nvGrpSpPr>
            <p:cNvPr id="851" name=""/>
            <p:cNvGrpSpPr/>
            <p:nvPr/>
          </p:nvGrpSpPr>
          <p:grpSpPr>
            <a:xfrm>
              <a:off x="5814360" y="363600"/>
              <a:ext cx="712440" cy="528840"/>
              <a:chOff x="5814360" y="363600"/>
              <a:chExt cx="712440" cy="528840"/>
            </a:xfrm>
          </p:grpSpPr>
          <p:sp>
            <p:nvSpPr>
              <p:cNvPr id="852" name=""/>
              <p:cNvSpPr/>
              <p:nvPr/>
            </p:nvSpPr>
            <p:spPr>
              <a:xfrm>
                <a:off x="5902560" y="363600"/>
                <a:ext cx="528840" cy="52884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14360" y="442080"/>
                <a:ext cx="7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yR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5658120" y="1262880"/>
              <a:ext cx="497880" cy="387720"/>
              <a:chOff x="5658120" y="1262880"/>
              <a:chExt cx="497880" cy="387720"/>
            </a:xfrm>
          </p:grpSpPr>
          <p:sp>
            <p:nvSpPr>
              <p:cNvPr id="855" name=""/>
              <p:cNvSpPr/>
              <p:nvPr/>
            </p:nvSpPr>
            <p:spPr>
              <a:xfrm>
                <a:off x="5709240" y="1262880"/>
                <a:ext cx="38772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58120" y="12751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6237720" y="1262880"/>
              <a:ext cx="397080" cy="387720"/>
              <a:chOff x="6237720" y="1262880"/>
              <a:chExt cx="397080" cy="387720"/>
            </a:xfrm>
          </p:grpSpPr>
          <p:sp>
            <p:nvSpPr>
              <p:cNvPr id="858" name=""/>
              <p:cNvSpPr/>
              <p:nvPr/>
            </p:nvSpPr>
            <p:spPr>
              <a:xfrm>
                <a:off x="6237720" y="1262880"/>
                <a:ext cx="387360" cy="38772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39160" y="1275120"/>
                <a:ext cx="3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6114600" y="927720"/>
              <a:ext cx="105480" cy="387720"/>
            </a:xfrm>
            <a:prstGeom prst="downArrow">
              <a:avLst>
                <a:gd name="adj1" fmla="val 50000"/>
                <a:gd name="adj2" fmla="val 91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6782040" y="540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13720" y="174600"/>
            <a:ext cx="2330280" cy="18097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61135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6272280" y="4013280"/>
            <a:ext cx="1506600" cy="723960"/>
          </a:xfrm>
          <a:prstGeom prst="wedgeEllipseCallout">
            <a:avLst>
              <a:gd name="adj1" fmla="val -34509"/>
              <a:gd name="adj2" fmla="val 176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INGO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5640" y="3293280"/>
            <a:ext cx="297108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9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</a:t>
            </a:r>
            <a:endParaRPr b="0" lang="en-US" sz="279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6624720" y="260280"/>
            <a:ext cx="2079720" cy="1096920"/>
          </a:xfrm>
          <a:prstGeom prst="wedgeEllipseCallout">
            <a:avLst>
              <a:gd name="adj1" fmla="val 22597"/>
              <a:gd name="adj2" fmla="val 81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Can you think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f an exceptio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o this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7866000" y="1514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2</a:t>
            </a:r>
            <a:r>
              <a:rPr b="1" lang="en-US" sz="3600" spc="-1" strike="noStrike" baseline="30000">
                <a:solidFill>
                  <a:srgbClr val="6600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law of hered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25280" y="3454560"/>
            <a:ext cx="1342800" cy="1123920"/>
            <a:chOff x="125280" y="3454560"/>
            <a:chExt cx="1342800" cy="1123920"/>
          </a:xfrm>
        </p:grpSpPr>
        <p:sp>
          <p:nvSpPr>
            <p:cNvPr id="870" name=""/>
            <p:cNvSpPr/>
            <p:nvPr/>
          </p:nvSpPr>
          <p:spPr>
            <a:xfrm>
              <a:off x="125280" y="3454560"/>
              <a:ext cx="1333800" cy="112392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50920" y="3510000"/>
              <a:ext cx="953640" cy="457200"/>
              <a:chOff x="250920" y="3510000"/>
              <a:chExt cx="953640" cy="457200"/>
            </a:xfrm>
          </p:grpSpPr>
          <p:sp>
            <p:nvSpPr>
              <p:cNvPr id="872" name=""/>
              <p:cNvSpPr/>
              <p:nvPr/>
            </p:nvSpPr>
            <p:spPr>
              <a:xfrm>
                <a:off x="250920" y="3510000"/>
                <a:ext cx="11412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5160" y="3539880"/>
                <a:ext cx="869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ound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250920" y="4040280"/>
              <a:ext cx="1217160" cy="457200"/>
              <a:chOff x="250920" y="4040280"/>
              <a:chExt cx="1217160" cy="457200"/>
            </a:xfrm>
          </p:grpSpPr>
          <p:sp>
            <p:nvSpPr>
              <p:cNvPr id="875" name=""/>
              <p:cNvSpPr/>
              <p:nvPr/>
            </p:nvSpPr>
            <p:spPr>
              <a:xfrm>
                <a:off x="250920" y="4040280"/>
                <a:ext cx="7632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19680" y="4068720"/>
                <a:ext cx="11484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rinkled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16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ifferen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c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genes) separate into gametes independentl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-homologous chromosomes align independ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lasses of gametes produced in equal amoun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YR = Yr = yR = y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ly true for genes on separate chromosomes o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 same chromosome but so far apart that crossing over happens frequentl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17360" y="2363760"/>
            <a:ext cx="1333440" cy="1009800"/>
            <a:chOff x="117360" y="2363760"/>
            <a:chExt cx="1333440" cy="1009800"/>
          </a:xfrm>
        </p:grpSpPr>
        <p:sp>
          <p:nvSpPr>
            <p:cNvPr id="879" name=""/>
            <p:cNvSpPr/>
            <p:nvPr/>
          </p:nvSpPr>
          <p:spPr>
            <a:xfrm>
              <a:off x="117360" y="2363760"/>
              <a:ext cx="1333440" cy="1009800"/>
            </a:xfrm>
            <a:prstGeom prst="roundRect">
              <a:avLst>
                <a:gd name="adj" fmla="val 16667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272880" y="2448000"/>
              <a:ext cx="1007640" cy="407880"/>
              <a:chOff x="272880" y="2448000"/>
              <a:chExt cx="1007640" cy="407880"/>
            </a:xfrm>
          </p:grpSpPr>
          <p:sp>
            <p:nvSpPr>
              <p:cNvPr id="881" name=""/>
              <p:cNvSpPr/>
              <p:nvPr/>
            </p:nvSpPr>
            <p:spPr>
              <a:xfrm>
                <a:off x="272880" y="2494080"/>
                <a:ext cx="7596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0720" y="2448000"/>
                <a:ext cx="91980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ellow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272880" y="2887560"/>
              <a:ext cx="924120" cy="407880"/>
              <a:chOff x="272880" y="2887560"/>
              <a:chExt cx="924120" cy="407880"/>
            </a:xfrm>
          </p:grpSpPr>
          <p:sp>
            <p:nvSpPr>
              <p:cNvPr id="884" name=""/>
              <p:cNvSpPr/>
              <p:nvPr/>
            </p:nvSpPr>
            <p:spPr>
              <a:xfrm>
                <a:off x="272880" y="2933640"/>
                <a:ext cx="7596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4960" y="2887560"/>
                <a:ext cx="842040" cy="407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reen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21830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2353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56884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752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75152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429440" y="6193800"/>
            <a:ext cx="3070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5400" y="6127920"/>
            <a:ext cx="142056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044360" y="6193800"/>
            <a:ext cx="39240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5488920" y="5419440"/>
            <a:ext cx="2661120" cy="605160"/>
            <a:chOff x="5488920" y="5419440"/>
            <a:chExt cx="2661120" cy="605160"/>
          </a:xfrm>
        </p:grpSpPr>
        <p:sp>
          <p:nvSpPr>
            <p:cNvPr id="895" name=""/>
            <p:cNvSpPr/>
            <p:nvPr/>
          </p:nvSpPr>
          <p:spPr>
            <a:xfrm rot="1800000">
              <a:off x="7543080" y="5562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 rot="3600000">
              <a:off x="6828840" y="56455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7200000">
              <a:off x="6198480" y="5646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 rot="9000000">
              <a:off x="5486040" y="556128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4800600" y="6019920"/>
            <a:ext cx="1930320" cy="838080"/>
            <a:chOff x="4800600" y="6019920"/>
            <a:chExt cx="1930320" cy="838080"/>
          </a:xfrm>
        </p:grpSpPr>
        <p:grpSp>
          <p:nvGrpSpPr>
            <p:cNvPr id="900" name=""/>
            <p:cNvGrpSpPr/>
            <p:nvPr/>
          </p:nvGrpSpPr>
          <p:grpSpPr>
            <a:xfrm>
              <a:off x="4800600" y="6019920"/>
              <a:ext cx="838080" cy="838080"/>
              <a:chOff x="4800600" y="6019920"/>
              <a:chExt cx="838080" cy="838080"/>
            </a:xfrm>
          </p:grpSpPr>
          <p:sp>
            <p:nvSpPr>
              <p:cNvPr id="901" name=""/>
              <p:cNvSpPr/>
              <p:nvPr/>
            </p:nvSpPr>
            <p:spPr>
              <a:xfrm>
                <a:off x="480060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05520" y="6248520"/>
                <a:ext cx="7596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34120" y="6172200"/>
                <a:ext cx="11412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5892840" y="6019920"/>
              <a:ext cx="838080" cy="838080"/>
              <a:chOff x="5892840" y="6019920"/>
              <a:chExt cx="838080" cy="838080"/>
            </a:xfrm>
          </p:grpSpPr>
          <p:sp>
            <p:nvSpPr>
              <p:cNvPr id="905" name=""/>
              <p:cNvSpPr/>
              <p:nvPr/>
            </p:nvSpPr>
            <p:spPr>
              <a:xfrm>
                <a:off x="58928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72200" y="6324480"/>
                <a:ext cx="7632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00800" y="6248520"/>
                <a:ext cx="11448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6985080" y="6019920"/>
            <a:ext cx="1930320" cy="838080"/>
            <a:chOff x="6985080" y="6019920"/>
            <a:chExt cx="1930320" cy="838080"/>
          </a:xfrm>
        </p:grpSpPr>
        <p:grpSp>
          <p:nvGrpSpPr>
            <p:cNvPr id="909" name=""/>
            <p:cNvGrpSpPr/>
            <p:nvPr/>
          </p:nvGrpSpPr>
          <p:grpSpPr>
            <a:xfrm>
              <a:off x="6985080" y="6019920"/>
              <a:ext cx="838080" cy="838080"/>
              <a:chOff x="6985080" y="6019920"/>
              <a:chExt cx="838080" cy="838080"/>
            </a:xfrm>
          </p:grpSpPr>
          <p:sp>
            <p:nvSpPr>
              <p:cNvPr id="910" name=""/>
              <p:cNvSpPr/>
              <p:nvPr/>
            </p:nvSpPr>
            <p:spPr>
              <a:xfrm>
                <a:off x="69850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238880" y="6324480"/>
                <a:ext cx="7632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467480" y="6172200"/>
                <a:ext cx="7632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8077320" y="6019920"/>
              <a:ext cx="838080" cy="838080"/>
              <a:chOff x="8077320" y="6019920"/>
              <a:chExt cx="838080" cy="838080"/>
            </a:xfrm>
          </p:grpSpPr>
          <p:sp>
            <p:nvSpPr>
              <p:cNvPr id="914" name=""/>
              <p:cNvSpPr/>
              <p:nvPr/>
            </p:nvSpPr>
            <p:spPr>
              <a:xfrm>
                <a:off x="80773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305920" y="6324480"/>
                <a:ext cx="7596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534520" y="6172200"/>
                <a:ext cx="7596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7" name=""/>
          <p:cNvGrpSpPr/>
          <p:nvPr/>
        </p:nvGrpSpPr>
        <p:grpSpPr>
          <a:xfrm>
            <a:off x="956880" y="5419440"/>
            <a:ext cx="2661480" cy="605160"/>
            <a:chOff x="956880" y="5419440"/>
            <a:chExt cx="2661480" cy="605160"/>
          </a:xfrm>
        </p:grpSpPr>
        <p:sp>
          <p:nvSpPr>
            <p:cNvPr id="918" name=""/>
            <p:cNvSpPr/>
            <p:nvPr/>
          </p:nvSpPr>
          <p:spPr>
            <a:xfrm rot="1800000">
              <a:off x="3011040" y="55623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 rot="3600000">
              <a:off x="2296800" y="56462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7200000">
              <a:off x="1666800" y="56462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 rot="9000000">
              <a:off x="953640" y="5561280"/>
              <a:ext cx="609840" cy="151920"/>
            </a:xfrm>
            <a:prstGeom prst="rightArrow">
              <a:avLst>
                <a:gd name="adj1" fmla="val 50000"/>
                <a:gd name="adj2" fmla="val 100355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268200" y="6019920"/>
            <a:ext cx="1930320" cy="838080"/>
            <a:chOff x="268200" y="6019920"/>
            <a:chExt cx="1930320" cy="838080"/>
          </a:xfrm>
        </p:grpSpPr>
        <p:grpSp>
          <p:nvGrpSpPr>
            <p:cNvPr id="923" name=""/>
            <p:cNvGrpSpPr/>
            <p:nvPr/>
          </p:nvGrpSpPr>
          <p:grpSpPr>
            <a:xfrm>
              <a:off x="1360440" y="6019920"/>
              <a:ext cx="838080" cy="838080"/>
              <a:chOff x="1360440" y="6019920"/>
              <a:chExt cx="838080" cy="838080"/>
            </a:xfrm>
          </p:grpSpPr>
          <p:sp>
            <p:nvSpPr>
              <p:cNvPr id="924" name=""/>
              <p:cNvSpPr/>
              <p:nvPr/>
            </p:nvSpPr>
            <p:spPr>
              <a:xfrm>
                <a:off x="136044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39800" y="6324480"/>
                <a:ext cx="7632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68400" y="6172200"/>
                <a:ext cx="7632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268200" y="6019920"/>
              <a:ext cx="838440" cy="838080"/>
              <a:chOff x="268200" y="6019920"/>
              <a:chExt cx="838440" cy="838080"/>
            </a:xfrm>
          </p:grpSpPr>
          <p:sp>
            <p:nvSpPr>
              <p:cNvPr id="928" name=""/>
              <p:cNvSpPr/>
              <p:nvPr/>
            </p:nvSpPr>
            <p:spPr>
              <a:xfrm>
                <a:off x="268200" y="6019920"/>
                <a:ext cx="83844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3120" y="6248520"/>
                <a:ext cx="7632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ffea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2120" y="6172200"/>
                <a:ext cx="75960" cy="457200"/>
              </a:xfrm>
              <a:custGeom>
                <a:avLst/>
                <a:gdLst/>
                <a:ahLst/>
                <a:rect l="l" t="t" r="r" b="b"/>
                <a:pathLst>
                  <a:path w="72" h="331">
                    <a:moveTo>
                      <a:pt x="0" y="0"/>
                    </a:moveTo>
                    <a:cubicBezTo>
                      <a:pt x="12" y="18"/>
                      <a:pt x="21" y="15"/>
                      <a:pt x="34" y="34"/>
                    </a:cubicBezTo>
                    <a:cubicBezTo>
                      <a:pt x="27" y="43"/>
                      <a:pt x="14" y="47"/>
                      <a:pt x="10" y="58"/>
                    </a:cubicBezTo>
                    <a:cubicBezTo>
                      <a:pt x="2" y="74"/>
                      <a:pt x="37" y="89"/>
                      <a:pt x="48" y="96"/>
                    </a:cubicBezTo>
                    <a:cubicBezTo>
                      <a:pt x="51" y="105"/>
                      <a:pt x="63" y="116"/>
                      <a:pt x="58" y="125"/>
                    </a:cubicBezTo>
                    <a:cubicBezTo>
                      <a:pt x="44" y="144"/>
                      <a:pt x="31" y="160"/>
                      <a:pt x="24" y="182"/>
                    </a:cubicBezTo>
                    <a:cubicBezTo>
                      <a:pt x="36" y="201"/>
                      <a:pt x="50" y="220"/>
                      <a:pt x="62" y="240"/>
                    </a:cubicBezTo>
                    <a:cubicBezTo>
                      <a:pt x="60" y="244"/>
                      <a:pt x="61" y="250"/>
                      <a:pt x="58" y="254"/>
                    </a:cubicBezTo>
                    <a:cubicBezTo>
                      <a:pt x="49" y="262"/>
                      <a:pt x="29" y="273"/>
                      <a:pt x="29" y="273"/>
                    </a:cubicBezTo>
                    <a:cubicBezTo>
                      <a:pt x="32" y="286"/>
                      <a:pt x="32" y="297"/>
                      <a:pt x="43" y="307"/>
                    </a:cubicBezTo>
                    <a:cubicBezTo>
                      <a:pt x="51" y="314"/>
                      <a:pt x="72" y="317"/>
                      <a:pt x="72" y="33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2452680" y="6019920"/>
            <a:ext cx="1930320" cy="838080"/>
            <a:chOff x="2452680" y="6019920"/>
            <a:chExt cx="1930320" cy="838080"/>
          </a:xfrm>
        </p:grpSpPr>
        <p:grpSp>
          <p:nvGrpSpPr>
            <p:cNvPr id="932" name=""/>
            <p:cNvGrpSpPr/>
            <p:nvPr/>
          </p:nvGrpSpPr>
          <p:grpSpPr>
            <a:xfrm>
              <a:off x="2452680" y="6019920"/>
              <a:ext cx="838080" cy="838080"/>
              <a:chOff x="2452680" y="6019920"/>
              <a:chExt cx="838080" cy="838080"/>
            </a:xfrm>
          </p:grpSpPr>
          <p:sp>
            <p:nvSpPr>
              <p:cNvPr id="933" name=""/>
              <p:cNvSpPr/>
              <p:nvPr/>
            </p:nvSpPr>
            <p:spPr>
              <a:xfrm>
                <a:off x="245268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706840" y="6324480"/>
                <a:ext cx="7596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35440" y="6172200"/>
                <a:ext cx="11412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3544920" y="6019920"/>
              <a:ext cx="838080" cy="838080"/>
              <a:chOff x="3544920" y="6019920"/>
              <a:chExt cx="838080" cy="838080"/>
            </a:xfrm>
          </p:grpSpPr>
          <p:sp>
            <p:nvSpPr>
              <p:cNvPr id="937" name=""/>
              <p:cNvSpPr/>
              <p:nvPr/>
            </p:nvSpPr>
            <p:spPr>
              <a:xfrm>
                <a:off x="3544920" y="6019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773520" y="6324480"/>
                <a:ext cx="76320" cy="30492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63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046400" y="6172200"/>
                <a:ext cx="114480" cy="45720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8" y="176"/>
                      <a:pt x="0" y="19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0" name=""/>
          <p:cNvSpPr/>
          <p:nvPr/>
        </p:nvSpPr>
        <p:spPr>
          <a:xfrm>
            <a:off x="15444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2148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1156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7824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65804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5028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92964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9632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1752480" y="4495680"/>
            <a:ext cx="1067040" cy="1067040"/>
            <a:chOff x="1752480" y="4495680"/>
            <a:chExt cx="1067040" cy="1067040"/>
          </a:xfrm>
        </p:grpSpPr>
        <p:sp>
          <p:nvSpPr>
            <p:cNvPr id="949" name=""/>
            <p:cNvSpPr/>
            <p:nvPr/>
          </p:nvSpPr>
          <p:spPr>
            <a:xfrm>
              <a:off x="1752480" y="4495680"/>
              <a:ext cx="106704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49480" y="457200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78080" y="457200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74840" y="4952880"/>
              <a:ext cx="114480" cy="45720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54160" y="4952880"/>
              <a:ext cx="76320" cy="457200"/>
            </a:xfrm>
            <a:custGeom>
              <a:avLst/>
              <a:gdLst/>
              <a:ahLst/>
              <a:rect l="l" t="t" r="r" b="b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2167920" y="457200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2396520" y="457200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2393280" y="4952880"/>
              <a:ext cx="114120" cy="45720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173320" y="4952880"/>
              <a:ext cx="76320" cy="457200"/>
            </a:xfrm>
            <a:custGeom>
              <a:avLst/>
              <a:gdLst/>
              <a:ahLst/>
              <a:rect l="l" t="t" r="r" b="b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284880" y="4495680"/>
            <a:ext cx="1066680" cy="1067040"/>
            <a:chOff x="6284880" y="4495680"/>
            <a:chExt cx="1066680" cy="1067040"/>
          </a:xfrm>
        </p:grpSpPr>
        <p:sp>
          <p:nvSpPr>
            <p:cNvPr id="959" name=""/>
            <p:cNvSpPr/>
            <p:nvPr/>
          </p:nvSpPr>
          <p:spPr>
            <a:xfrm>
              <a:off x="6284880" y="4495680"/>
              <a:ext cx="1066680" cy="106704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13560" y="457200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42160" y="457200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6732000" y="457200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ffea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6960600" y="457200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6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856560" y="4952880"/>
              <a:ext cx="75960" cy="457200"/>
            </a:xfrm>
            <a:custGeom>
              <a:avLst/>
              <a:gdLst/>
              <a:ahLst/>
              <a:rect l="l" t="t" r="r" b="b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6975360" y="4952880"/>
              <a:ext cx="76320" cy="457200"/>
            </a:xfrm>
            <a:custGeom>
              <a:avLst/>
              <a:gdLst/>
              <a:ahLst/>
              <a:rect l="l" t="t" r="r" b="b"/>
              <a:pathLst>
                <a:path w="72" h="331">
                  <a:moveTo>
                    <a:pt x="0" y="0"/>
                  </a:moveTo>
                  <a:cubicBezTo>
                    <a:pt x="12" y="18"/>
                    <a:pt x="21" y="15"/>
                    <a:pt x="34" y="34"/>
                  </a:cubicBezTo>
                  <a:cubicBezTo>
                    <a:pt x="27" y="43"/>
                    <a:pt x="14" y="47"/>
                    <a:pt x="10" y="58"/>
                  </a:cubicBezTo>
                  <a:cubicBezTo>
                    <a:pt x="2" y="74"/>
                    <a:pt x="37" y="89"/>
                    <a:pt x="48" y="96"/>
                  </a:cubicBezTo>
                  <a:cubicBezTo>
                    <a:pt x="51" y="105"/>
                    <a:pt x="63" y="116"/>
                    <a:pt x="58" y="125"/>
                  </a:cubicBezTo>
                  <a:cubicBezTo>
                    <a:pt x="44" y="144"/>
                    <a:pt x="31" y="160"/>
                    <a:pt x="24" y="182"/>
                  </a:cubicBezTo>
                  <a:cubicBezTo>
                    <a:pt x="36" y="201"/>
                    <a:pt x="50" y="220"/>
                    <a:pt x="62" y="240"/>
                  </a:cubicBezTo>
                  <a:cubicBezTo>
                    <a:pt x="60" y="244"/>
                    <a:pt x="61" y="250"/>
                    <a:pt x="58" y="254"/>
                  </a:cubicBezTo>
                  <a:cubicBezTo>
                    <a:pt x="49" y="262"/>
                    <a:pt x="29" y="273"/>
                    <a:pt x="29" y="273"/>
                  </a:cubicBezTo>
                  <a:cubicBezTo>
                    <a:pt x="32" y="286"/>
                    <a:pt x="32" y="297"/>
                    <a:pt x="43" y="307"/>
                  </a:cubicBezTo>
                  <a:cubicBezTo>
                    <a:pt x="51" y="314"/>
                    <a:pt x="72" y="317"/>
                    <a:pt x="72" y="33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00960" y="4952880"/>
              <a:ext cx="114120" cy="45720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719760" y="4952880"/>
              <a:ext cx="114480" cy="45720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3930480" y="4441680"/>
            <a:ext cx="1143000" cy="11430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6480" y="45950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070600" y="4708440"/>
            <a:ext cx="768240" cy="609840"/>
          </a:xfrm>
          <a:custGeom>
            <a:avLst/>
            <a:gdLst>
              <a:gd name="textAreaLeft" fmla="*/ 119880 w 768240"/>
              <a:gd name="textAreaRight" fmla="*/ 67248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3157560" y="4708440"/>
            <a:ext cx="768240" cy="609840"/>
          </a:xfrm>
          <a:custGeom>
            <a:avLst/>
            <a:gdLst>
              <a:gd name="textAreaLeft" fmla="*/ 120240 w 768240"/>
              <a:gd name="textAreaRight" fmla="*/ 672840 w 7682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48280" y="5089680"/>
            <a:ext cx="7596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70400" y="5156280"/>
            <a:ext cx="7632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92520" y="5097600"/>
            <a:ext cx="11448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822920" y="507204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0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500"/>
                            </p:stCondLst>
                            <p:childTnLst>
                              <p:par>
                                <p:cTn id="1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"/>
          <p:cNvGrpSpPr/>
          <p:nvPr/>
        </p:nvGrpSpPr>
        <p:grpSpPr>
          <a:xfrm>
            <a:off x="5573880" y="1279440"/>
            <a:ext cx="3447360" cy="5192640"/>
            <a:chOff x="5573880" y="1279440"/>
            <a:chExt cx="3447360" cy="5192640"/>
          </a:xfrm>
        </p:grpSpPr>
        <p:pic>
          <p:nvPicPr>
            <p:cNvPr id="977" name="" descr=""/>
            <p:cNvPicPr/>
            <p:nvPr/>
          </p:nvPicPr>
          <p:blipFill>
            <a:blip r:embed="rId1"/>
            <a:srcRect l="61970" t="0" r="0" b="4984"/>
            <a:stretch/>
          </p:blipFill>
          <p:spPr>
            <a:xfrm>
              <a:off x="6179400" y="1279440"/>
              <a:ext cx="284184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"/>
            <p:cNvSpPr/>
            <p:nvPr/>
          </p:nvSpPr>
          <p:spPr>
            <a:xfrm>
              <a:off x="5573880" y="1630080"/>
              <a:ext cx="1713960" cy="56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Independent Assort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38080" y="1370160"/>
            <a:ext cx="568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ich stage of  meiosis creates the law of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independent assortm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4519800" y="2800080"/>
            <a:ext cx="2727000" cy="854280"/>
            <a:chOff x="4519800" y="2800080"/>
            <a:chExt cx="2727000" cy="854280"/>
          </a:xfrm>
        </p:grpSpPr>
        <p:sp>
          <p:nvSpPr>
            <p:cNvPr id="982" name=""/>
            <p:cNvSpPr/>
            <p:nvPr/>
          </p:nvSpPr>
          <p:spPr>
            <a:xfrm>
              <a:off x="5113440" y="3121200"/>
              <a:ext cx="2133360" cy="533160"/>
            </a:xfrm>
            <a:custGeom>
              <a:avLst/>
              <a:gdLst>
                <a:gd name="textAreaLeft" fmla="*/ 333360 w 2133360"/>
                <a:gd name="textAreaRight" fmla="*/ 1866960 w 21333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19800" y="2800080"/>
              <a:ext cx="2169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taphase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616040" y="4226400"/>
            <a:ext cx="4738680" cy="25999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f genes are on same chromosome &amp; close together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will usually be inherited togethe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rarely crossover separately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69880" indent="-226800"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linked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126120" y="4284360"/>
            <a:ext cx="420840" cy="2475000"/>
            <a:chOff x="6126120" y="4284360"/>
            <a:chExt cx="420840" cy="2475000"/>
          </a:xfrm>
        </p:grpSpPr>
        <p:pic>
          <p:nvPicPr>
            <p:cNvPr id="986" name="" descr=""/>
            <p:cNvPicPr/>
            <p:nvPr/>
          </p:nvPicPr>
          <p:blipFill>
            <a:blip r:embed="rId2"/>
            <a:srcRect l="0" t="16800" r="24302" b="66003"/>
            <a:stretch/>
          </p:blipFill>
          <p:spPr>
            <a:xfrm rot="16200000">
              <a:off x="5099040" y="5311440"/>
              <a:ext cx="247500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3"/>
            <a:srcRect l="58501" t="62406" r="34199" b="21600"/>
            <a:stretch/>
          </p:blipFill>
          <p:spPr>
            <a:xfrm rot="16200000">
              <a:off x="6217560" y="5169240"/>
              <a:ext cx="237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4"/>
            <a:srcRect l="51302" t="16800" r="43204" b="66003"/>
            <a:stretch/>
          </p:blipFill>
          <p:spPr>
            <a:xfrm rot="16200000">
              <a:off x="6246000" y="4510440"/>
              <a:ext cx="1810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5"/>
            <a:srcRect l="59404" t="16800" r="35102" b="66003"/>
            <a:stretch/>
          </p:blipFill>
          <p:spPr>
            <a:xfrm rot="16200000">
              <a:off x="6246000" y="5378760"/>
              <a:ext cx="181080" cy="42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0" name="" descr=""/>
          <p:cNvPicPr/>
          <p:nvPr/>
        </p:nvPicPr>
        <p:blipFill>
          <a:blip r:embed="rId6"/>
          <a:stretch/>
        </p:blipFill>
        <p:spPr>
          <a:xfrm flipH="1">
            <a:off x="182160" y="55609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 flipH="1">
            <a:off x="-720" y="2859120"/>
            <a:ext cx="2274840" cy="1620720"/>
          </a:xfrm>
          <a:prstGeom prst="wedgeEllipseCallout">
            <a:avLst>
              <a:gd name="adj1" fmla="val 1569"/>
              <a:gd name="adj2" fmla="val 1273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Mendel didn’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ven know DN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—or genes—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existed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3179880" y="380880"/>
            <a:ext cx="5964120" cy="647712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chromosoma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is of Mendel’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ws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ce the geneti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iosis, game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ation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ertilization to offsprin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: Mendel’s laws of hered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segreg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onohybrid cros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trai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e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egregates into separate game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Law of 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hybrid (or more) cro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 or more trait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on separate chromosom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ssort into gametes independentl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taphase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7216920" y="4971960"/>
            <a:ext cx="1764720" cy="1765080"/>
            <a:chOff x="7216920" y="4971960"/>
            <a:chExt cx="1764720" cy="1765080"/>
          </a:xfrm>
        </p:grpSpPr>
        <p:sp>
          <p:nvSpPr>
            <p:cNvPr id="997" name=""/>
            <p:cNvSpPr/>
            <p:nvPr/>
          </p:nvSpPr>
          <p:spPr>
            <a:xfrm>
              <a:off x="7216920" y="4971960"/>
              <a:ext cx="1764720" cy="176508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8007840" y="5091840"/>
              <a:ext cx="370800" cy="464040"/>
              <a:chOff x="8007840" y="5091840"/>
              <a:chExt cx="370800" cy="464040"/>
            </a:xfrm>
          </p:grpSpPr>
          <p:sp>
            <p:nvSpPr>
              <p:cNvPr id="999" name=""/>
              <p:cNvSpPr/>
              <p:nvPr/>
            </p:nvSpPr>
            <p:spPr>
              <a:xfrm flipV="1">
                <a:off x="8007840" y="5091480"/>
                <a:ext cx="160560" cy="46404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 flipV="1">
                <a:off x="8217360" y="5091480"/>
                <a:ext cx="160920" cy="46404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8075880" y="5622120"/>
              <a:ext cx="455760" cy="928800"/>
              <a:chOff x="8075880" y="5622120"/>
              <a:chExt cx="455760" cy="928800"/>
            </a:xfrm>
          </p:grpSpPr>
          <p:sp>
            <p:nvSpPr>
              <p:cNvPr id="1002" name=""/>
              <p:cNvSpPr/>
              <p:nvPr/>
            </p:nvSpPr>
            <p:spPr>
              <a:xfrm>
                <a:off x="8075880" y="5622120"/>
                <a:ext cx="224640" cy="9288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8307000" y="5622120"/>
                <a:ext cx="224640" cy="9288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7710120" y="5064480"/>
              <a:ext cx="370800" cy="464400"/>
              <a:chOff x="7710120" y="5064480"/>
              <a:chExt cx="370800" cy="464400"/>
            </a:xfrm>
          </p:grpSpPr>
          <p:sp>
            <p:nvSpPr>
              <p:cNvPr id="1005" name=""/>
              <p:cNvSpPr/>
              <p:nvPr/>
            </p:nvSpPr>
            <p:spPr>
              <a:xfrm flipV="1">
                <a:off x="7710120" y="5064480"/>
                <a:ext cx="160560" cy="46440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 flipV="1">
                <a:off x="7919640" y="5064480"/>
                <a:ext cx="160920" cy="46440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7718040" y="5622120"/>
              <a:ext cx="456120" cy="928800"/>
              <a:chOff x="7718040" y="5622120"/>
              <a:chExt cx="456120" cy="928800"/>
            </a:xfrm>
          </p:grpSpPr>
          <p:sp>
            <p:nvSpPr>
              <p:cNvPr id="1008" name=""/>
              <p:cNvSpPr/>
              <p:nvPr/>
            </p:nvSpPr>
            <p:spPr>
              <a:xfrm>
                <a:off x="7718040" y="5622120"/>
                <a:ext cx="224640" cy="9288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7949520" y="5622120"/>
                <a:ext cx="224640" cy="9288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>
            <a:off x="5498640" y="6296760"/>
            <a:ext cx="17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etaphase1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51080" y="6001200"/>
            <a:ext cx="2530440" cy="74268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CEP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inked gen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wise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7240" y="1307880"/>
            <a:ext cx="8304480" cy="53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vailable in many varieties with distinct heritable features with different varia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ower color, seed color, seed shape, etc.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del had strict control over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ich plants mated with whic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pea plant has male &amp; femal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ea plants can self-fertiliz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ndel could also cross-pollina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: moving pollen from one plant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 ano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rcRect l="33751" t="3000" r="33751" b="1504"/>
          <a:stretch/>
        </p:blipFill>
        <p:spPr>
          <a:xfrm>
            <a:off x="7461360" y="3166920"/>
            <a:ext cx="1652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6760" y="1324080"/>
            <a:ext cx="1307880" cy="54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7878" t="9000" r="9000" b="1504"/>
          <a:stretch/>
        </p:blipFill>
        <p:spPr>
          <a:xfrm>
            <a:off x="3995640" y="1330200"/>
            <a:ext cx="5148360" cy="415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19720" y="952560"/>
            <a:ext cx="2960640" cy="3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len transferred from white flower to stigma of purple flower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89360" y="3092400"/>
            <a:ext cx="7430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her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16480" y="3602160"/>
            <a:ext cx="227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purple flowers resul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843320" y="2598480"/>
            <a:ext cx="4352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012000" y="5294160"/>
            <a:ext cx="1079280" cy="1079640"/>
          </a:xfrm>
          <a:custGeom>
            <a:avLst/>
            <a:gdLst>
              <a:gd name="textAreaLeft" fmla="*/ 360 w 1079280"/>
              <a:gd name="textAreaRight" fmla="*/ 1080000 w 107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288" y="10800"/>
                </a:moveTo>
                <a:arcTo wR="-6512" hR="-6512" stAng="-10800000" swAng="-16241028"/>
                <a:lnTo>
                  <a:pt x="10929" y="21599"/>
                </a:lnTo>
                <a:arcTo wR="10800" hR="10800" stAng="5358972" swAng="16241028"/>
                <a:lnTo>
                  <a:pt x="24300" y="10800"/>
                </a:lnTo>
                <a:lnTo>
                  <a:pt x="19456" y="15644"/>
                </a:lnTo>
                <a:lnTo>
                  <a:pt x="14612" y="108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89840" y="4192560"/>
            <a:ext cx="637920" cy="63828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89840" y="140184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89840" y="6124680"/>
            <a:ext cx="637920" cy="637920"/>
          </a:xfrm>
          <a:prstGeom prst="ellipse">
            <a:avLst/>
          </a:pr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22120" y="568836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92400" y="3787920"/>
            <a:ext cx="357480" cy="447480"/>
          </a:xfrm>
          <a:custGeom>
            <a:avLst/>
            <a:gdLst>
              <a:gd name="textAreaLeft" fmla="*/ 17280 w 357480"/>
              <a:gd name="textAreaRight" fmla="*/ 340200 w 357480"/>
              <a:gd name="textAreaTop" fmla="*/ 17280 h 447480"/>
              <a:gd name="textAreaBottom" fmla="*/ 430200 h 447480"/>
            </a:gdLst>
            <a:ahLst/>
            <a:rect l="textAreaLeft" t="textAreaTop" r="textAreaRight" b="textAreaBottom"/>
            <a:pathLst>
              <a:path w="21600" h="27033">
                <a:moveTo>
                  <a:pt x="3600" y="0"/>
                </a:moveTo>
                <a:arcTo wR="3600" hR="3600" stAng="16200000" swAng="-5400000"/>
                <a:lnTo>
                  <a:pt x="0" y="23433"/>
                </a:lnTo>
                <a:arcTo wR="3600" hR="3600" stAng="10800000" swAng="-5400000"/>
                <a:lnTo>
                  <a:pt x="18000" y="27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379160"/>
            <a:ext cx="8558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d pea pla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oss-pollinate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rue breeding parent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 = parent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ised seed &amp; the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bserved trait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 = fili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ed offspr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elf-pollin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observed nex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eneration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lucki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latively simple genetical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characters are controlled by a single gene with each gene having only 2 alleles,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one completely dominant over </a:t>
            </a:r>
            <a:br>
              <a:rPr sz="2000"/>
            </a:b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the other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76320" y="5738760"/>
            <a:ext cx="1676160" cy="96696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2"/>
          <a:stretch/>
        </p:blipFill>
        <p:spPr>
          <a:xfrm>
            <a:off x="6780240" y="3249720"/>
            <a:ext cx="2332080" cy="360828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3"/>
          <a:srcRect l="7878" t="9000" r="9000" b="1504"/>
          <a:stretch/>
        </p:blipFill>
        <p:spPr>
          <a:xfrm>
            <a:off x="2298600" y="3859200"/>
            <a:ext cx="3625920" cy="292752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 flipH="1" flipV="1">
            <a:off x="4949640" y="5202000"/>
            <a:ext cx="9180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690480" y="2286000"/>
            <a:ext cx="3143160" cy="442116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3995640" y="738360"/>
            <a:ext cx="4945320" cy="2911320"/>
          </a:xfrm>
          <a:prstGeom prst="wedgeEllipseCallout">
            <a:avLst>
              <a:gd name="adj1" fmla="val -70287"/>
              <a:gd name="adj2" fmla="val 28625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500"/>
                            </p:stCondLst>
                            <p:childTnLst>
                              <p:par>
                                <p:cTn id="1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45840" y="669240"/>
            <a:ext cx="686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endel collected data for 7 pea trait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2013" r="0" b="0"/>
          <a:stretch/>
        </p:blipFill>
        <p:spPr>
          <a:xfrm>
            <a:off x="1295280" y="1228680"/>
            <a:ext cx="66294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5310000"/>
            <a:ext cx="8745120" cy="1544760"/>
            <a:chOff x="0" y="5310000"/>
            <a:chExt cx="8745120" cy="1544760"/>
          </a:xfrm>
        </p:grpSpPr>
        <p:sp>
          <p:nvSpPr>
            <p:cNvPr id="127" name=""/>
            <p:cNvSpPr/>
            <p:nvPr/>
          </p:nvSpPr>
          <p:spPr>
            <a:xfrm>
              <a:off x="0" y="6321240"/>
              <a:ext cx="1905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7720" y="5719680"/>
              <a:ext cx="1482120" cy="82440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14320" y="5330520"/>
              <a:ext cx="73080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3: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767960" y="5310000"/>
              <a:ext cx="2663280" cy="1544760"/>
              <a:chOff x="1767960" y="5310000"/>
              <a:chExt cx="2663280" cy="1544760"/>
            </a:xfrm>
          </p:grpSpPr>
          <p:sp>
            <p:nvSpPr>
              <p:cNvPr id="131" name=""/>
              <p:cNvSpPr/>
              <p:nvPr/>
            </p:nvSpPr>
            <p:spPr>
              <a:xfrm>
                <a:off x="1767960" y="531000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75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901520" y="5940360"/>
                <a:ext cx="2396520" cy="914400"/>
                <a:chOff x="1901520" y="5940360"/>
                <a:chExt cx="2396520" cy="91440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1"/>
                <a:srcRect l="9000" t="66008" r="75379" b="7504"/>
                <a:stretch/>
              </p:blipFill>
              <p:spPr>
                <a:xfrm>
                  <a:off x="19015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"/>
                <a:srcRect l="9000" t="66008" r="75379" b="7504"/>
                <a:stretch/>
              </p:blipFill>
              <p:spPr>
                <a:xfrm>
                  <a:off x="273924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3"/>
                <a:srcRect l="9000" t="66008" r="75379" b="7504"/>
                <a:stretch/>
              </p:blipFill>
              <p:spPr>
                <a:xfrm>
                  <a:off x="3579120" y="594036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6" name=""/>
            <p:cNvGrpSpPr/>
            <p:nvPr/>
          </p:nvGrpSpPr>
          <p:grpSpPr>
            <a:xfrm>
              <a:off x="4795560" y="5310000"/>
              <a:ext cx="2523240" cy="1524240"/>
              <a:chOff x="4795560" y="5310000"/>
              <a:chExt cx="2523240" cy="1524240"/>
            </a:xfrm>
          </p:grpSpPr>
          <p:sp>
            <p:nvSpPr>
              <p:cNvPr id="137" name=""/>
              <p:cNvSpPr/>
              <p:nvPr/>
            </p:nvSpPr>
            <p:spPr>
              <a:xfrm>
                <a:off x="4795560" y="5310000"/>
                <a:ext cx="252324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ヒラギノ角ゴ Pro W3"/>
                  </a:rPr>
                  <a:t>_x0008__x0008_</a:t>
                </a: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25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whit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138" name="" descr=""/>
              <p:cNvPicPr/>
              <p:nvPr/>
            </p:nvPicPr>
            <p:blipFill>
              <a:blip r:embed="rId4"/>
              <a:srcRect l="78757" t="66008" r="4500" b="7504"/>
              <a:stretch/>
            </p:blipFill>
            <p:spPr>
              <a:xfrm>
                <a:off x="5678640" y="5940360"/>
                <a:ext cx="758880" cy="893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90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880" y="1599840"/>
            <a:ext cx="435240" cy="504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9800" y="3122280"/>
            <a:ext cx="8841600" cy="1602000"/>
            <a:chOff x="109800" y="3122280"/>
            <a:chExt cx="8841600" cy="1602000"/>
          </a:xfrm>
        </p:grpSpPr>
        <p:sp>
          <p:nvSpPr>
            <p:cNvPr id="143" name=""/>
            <p:cNvSpPr/>
            <p:nvPr/>
          </p:nvSpPr>
          <p:spPr>
            <a:xfrm>
              <a:off x="7796880" y="3460320"/>
              <a:ext cx="1154520" cy="50400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9800" y="3224160"/>
              <a:ext cx="1482120" cy="11008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925720" y="3122280"/>
              <a:ext cx="3233880" cy="1602000"/>
              <a:chOff x="2925720" y="3122280"/>
              <a:chExt cx="3233880" cy="16020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10840" y="3122280"/>
                <a:ext cx="2663280" cy="63252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f116a"/>
                    </a:solidFill>
                    <a:latin typeface="Arial"/>
                  </a:rPr>
                  <a:t>100%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660066"/>
                    </a:solidFill>
                    <a:latin typeface="Arial"/>
                  </a:rPr>
                  <a:t>purple-flower peas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25720" y="3809880"/>
                <a:ext cx="3233880" cy="914400"/>
                <a:chOff x="2925720" y="3809880"/>
                <a:chExt cx="3233880" cy="914400"/>
              </a:xfrm>
            </p:grpSpPr>
            <p:pic>
              <p:nvPicPr>
                <p:cNvPr id="148" name="" descr=""/>
                <p:cNvPicPr/>
                <p:nvPr/>
              </p:nvPicPr>
              <p:blipFill>
                <a:blip r:embed="rId5"/>
                <a:srcRect l="9000" t="66008" r="75379" b="7504"/>
                <a:stretch/>
              </p:blipFill>
              <p:spPr>
                <a:xfrm>
                  <a:off x="29257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" descr=""/>
                <p:cNvPicPr/>
                <p:nvPr/>
              </p:nvPicPr>
              <p:blipFill>
                <a:blip r:embed="rId6"/>
                <a:srcRect l="9000" t="66008" r="75379" b="7504"/>
                <a:stretch/>
              </p:blipFill>
              <p:spPr>
                <a:xfrm>
                  <a:off x="376380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" descr=""/>
                <p:cNvPicPr/>
                <p:nvPr/>
              </p:nvPicPr>
              <p:blipFill>
                <a:blip r:embed="rId7"/>
                <a:srcRect l="9000" t="66008" r="75379" b="7504"/>
                <a:stretch/>
              </p:blipFill>
              <p:spPr>
                <a:xfrm>
                  <a:off x="4602240" y="3809880"/>
                  <a:ext cx="7189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8"/>
                <a:srcRect l="9000" t="66008" r="75379" b="7504"/>
                <a:stretch/>
              </p:blipFill>
              <p:spPr>
                <a:xfrm>
                  <a:off x="5440320" y="3809880"/>
                  <a:ext cx="71928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2" name=""/>
          <p:cNvSpPr/>
          <p:nvPr/>
        </p:nvSpPr>
        <p:spPr>
          <a:xfrm>
            <a:off x="434808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93080" y="1369800"/>
            <a:ext cx="2663280" cy="1540080"/>
            <a:chOff x="1693080" y="1369800"/>
            <a:chExt cx="2663280" cy="1540080"/>
          </a:xfrm>
        </p:grpSpPr>
        <p:sp>
          <p:nvSpPr>
            <p:cNvPr id="154" name=""/>
            <p:cNvSpPr/>
            <p:nvPr/>
          </p:nvSpPr>
          <p:spPr>
            <a:xfrm>
              <a:off x="1693080" y="136980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rue-breeding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9"/>
            <a:srcRect l="9000" t="66008" r="75379" b="7504"/>
            <a:stretch/>
          </p:blipFill>
          <p:spPr>
            <a:xfrm>
              <a:off x="2679480" y="1995480"/>
              <a:ext cx="719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4836600" y="1369800"/>
            <a:ext cx="2523240" cy="1519560"/>
            <a:chOff x="4836600" y="1369800"/>
            <a:chExt cx="2523240" cy="1519560"/>
          </a:xfrm>
        </p:grpSpPr>
        <p:sp>
          <p:nvSpPr>
            <p:cNvPr id="157" name=""/>
            <p:cNvSpPr/>
            <p:nvPr/>
          </p:nvSpPr>
          <p:spPr>
            <a:xfrm>
              <a:off x="4836600" y="136980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ue-breeding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0"/>
            <a:srcRect l="78757" t="66008" r="4500" b="7504"/>
            <a:stretch/>
          </p:blipFill>
          <p:spPr>
            <a:xfrm>
              <a:off x="5769000" y="1995480"/>
              <a:ext cx="75852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 flipH="1">
            <a:off x="3906000" y="4452840"/>
            <a:ext cx="1079640" cy="1079640"/>
          </a:xfrm>
          <a:custGeom>
            <a:avLst/>
            <a:gdLst>
              <a:gd name="textAreaLeft" fmla="*/ -360 w 1079640"/>
              <a:gd name="textAreaRight" fmla="*/ 1079640 w 1079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734" y="9149"/>
                </a:moveTo>
                <a:arcTo wR="-6287" hR="-6287" stAng="-9886611" swAng="-17154416"/>
                <a:lnTo>
                  <a:pt x="10929" y="21599"/>
                </a:lnTo>
                <a:arcTo wR="10800" hR="10800" stAng="5358972" swAng="17154416"/>
                <a:lnTo>
                  <a:pt x="23826" y="14345"/>
                </a:lnTo>
                <a:lnTo>
                  <a:pt x="17742" y="17826"/>
                </a:lnTo>
                <a:lnTo>
                  <a:pt x="14261" y="11742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6840" y="4926240"/>
            <a:ext cx="1340280" cy="243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f-pollin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9800" y="2308320"/>
            <a:ext cx="1698480" cy="1184040"/>
          </a:xfrm>
          <a:prstGeom prst="wedgeEllipseCallout">
            <a:avLst>
              <a:gd name="adj1" fmla="val -75046"/>
              <a:gd name="adj2" fmla="val 975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 di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e 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lowers go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89800" y="4338720"/>
            <a:ext cx="1698480" cy="1184040"/>
          </a:xfrm>
          <a:prstGeom prst="wedgeEllipseCallout">
            <a:avLst>
              <a:gd name="adj1" fmla="val -67009"/>
              <a:gd name="adj2" fmla="val 957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flowers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bac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its come in alternative vers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vs. white 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alleles vary in the sequence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ucleotid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t the specific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ocu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a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ome difference in sequence of A, T, C, G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05520" y="396396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7040" y="433296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purpl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&amp; </a:t>
            </a:r>
            <a:br>
              <a:rPr sz="2200"/>
            </a:b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white-flower allele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are two DNA variations at </a:t>
            </a:r>
            <a:r>
              <a:rPr b="1" lang="en-US" sz="2200" spc="-1" strike="noStrike" u="sng">
                <a:solidFill>
                  <a:srgbClr val="0f116a"/>
                </a:solidFill>
                <a:uFillTx/>
                <a:latin typeface="Arial"/>
              </a:rPr>
              <a:t>flower-color locu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7040" y="5570640"/>
            <a:ext cx="4362480" cy="111456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ifferent versions of gene at same location on homologous chromosom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its are inherited as discrete uni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each characteristic, an organism inherits 2 alleles, 1 from each par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plo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ganis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herits 2 sets of chromosomes,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 from each par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having 2 editions of encycloped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Britannica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America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 flipH="1">
            <a:off x="2617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2387520" y="5548320"/>
            <a:ext cx="2433600" cy="1136520"/>
          </a:xfrm>
          <a:prstGeom prst="wedgeEllipseCallout">
            <a:avLst>
              <a:gd name="adj1" fmla="val 93962"/>
              <a:gd name="adj2" fmla="val -2598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 are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dvantages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being diploid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traits mask oth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03b3"/>
                </a:solidFill>
                <a:uFillTx/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i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lower colors are separate traits that do not blend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≠ </a:t>
            </a:r>
            <a:r>
              <a:rPr b="1" lang="en-US" sz="2400" spc="-1" strike="noStrike">
                <a:solidFill>
                  <a:srgbClr val="8044bc"/>
                </a:solidFill>
                <a:latin typeface="Arial"/>
              </a:rPr>
              <a:t>light purp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3b3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maske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ominant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ctional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sks other allel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cessive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ele makes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lfunctioning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12000" r="24302" b="15603"/>
          <a:stretch/>
        </p:blipFill>
        <p:spPr>
          <a:xfrm rot="16200000">
            <a:off x="5758560" y="3576960"/>
            <a:ext cx="3706920" cy="265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69600" y="5881680"/>
            <a:ext cx="1262880" cy="472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ologou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205760" y="1873080"/>
            <a:ext cx="1836720" cy="1028880"/>
          </a:xfrm>
          <a:prstGeom prst="wedgeEllipseCallout">
            <a:avLst>
              <a:gd name="adj1" fmla="val 65296"/>
              <a:gd name="adj2" fmla="val 127310"/>
            </a:avLst>
          </a:prstGeom>
          <a:solidFill>
            <a:srgbClr val="ffea1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’ll speak for 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both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of u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s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99760" y="3971520"/>
            <a:ext cx="1573920" cy="708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wild typ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prote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83120" y="3956040"/>
            <a:ext cx="1459800" cy="945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uta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produc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function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 vs. ph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ce between how an organism “looks” &amp; its geneti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trai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“physical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genetic makeu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2560" y="5146560"/>
            <a:ext cx="5410440" cy="114300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plain Mendel’s results us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dominant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recessiv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&amp;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492960" y="4317840"/>
            <a:ext cx="2555640" cy="2500560"/>
            <a:chOff x="6492960" y="4317840"/>
            <a:chExt cx="2555640" cy="2500560"/>
          </a:xfrm>
        </p:grpSpPr>
        <p:sp>
          <p:nvSpPr>
            <p:cNvPr id="183" name=""/>
            <p:cNvSpPr/>
            <p:nvPr/>
          </p:nvSpPr>
          <p:spPr>
            <a:xfrm>
              <a:off x="6507360" y="600264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02680" y="4624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rcRect l="9000" t="66008" r="75379" b="7504"/>
            <a:stretch/>
          </p:blipFill>
          <p:spPr>
            <a:xfrm>
              <a:off x="6950160" y="4352760"/>
              <a:ext cx="718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rcRect l="78757" t="66008" r="4500" b="7504"/>
            <a:stretch/>
          </p:blipFill>
          <p:spPr>
            <a:xfrm>
              <a:off x="8182080" y="4352760"/>
              <a:ext cx="7588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791480" y="4946760"/>
              <a:ext cx="228600" cy="671400"/>
            </a:xfrm>
            <a:prstGeom prst="downArrow">
              <a:avLst>
                <a:gd name="adj1" fmla="val 50000"/>
                <a:gd name="adj2" fmla="val 73425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4000" y="4544640"/>
              <a:ext cx="401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3"/>
            <a:srcRect l="9000" t="66008" r="75379" b="7504"/>
            <a:stretch/>
          </p:blipFill>
          <p:spPr>
            <a:xfrm>
              <a:off x="7545240" y="5721480"/>
              <a:ext cx="719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908040" y="521784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rp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13400" y="521784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64160" y="64735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urp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92960" y="4317840"/>
              <a:ext cx="2555640" cy="250056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1:03:27Z</dcterms:created>
  <dc:creator>Kim Foglia</dc:creator>
  <dc:description>All Rights Reserved. Copyright 2003. WD Interactive.</dc:description>
  <cp:keywords>Education Biology Zone Kim Foglia</cp:keywords>
  <dc:language>en-US</dc:language>
  <cp:lastModifiedBy>Kim B. Foglia</cp:lastModifiedBy>
  <cp:lastPrinted>2007-04-16T01:01:25Z</cp:lastPrinted>
  <dcterms:modified xsi:type="dcterms:W3CDTF">2009-03-15T22:21:40Z</dcterms:modified>
  <cp:revision>191</cp:revision>
  <dc:subject>AP &amp; Regents Biology</dc:subject>
  <dc:title>Family resemblance can be striking!</dc:title>
</cp:coreProperties>
</file>